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E9B1B-5A03-42BC-8FF2-3080D198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D343-9989-4736-8E89-5357B7D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1A3E6-B4FA-4AD2-8E23-E889F451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57068-7F51-4B8F-918F-24A469B6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61EF-2350-4E32-8333-9F361F3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A2432-0376-43BF-8C81-50BEB52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801B-F30F-4238-B975-337B3669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F8E3C-35E4-4112-8093-8173154A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1AF51-1E52-4F6A-8DB4-551D860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BB0D7-E4F3-48B0-B102-1B3014AA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FFEE1-BBC9-4076-9238-7A9E96B0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7BA8-051F-4841-954B-71B7A209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F3713-FC08-46E8-A3A9-11217312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81612-CE6A-415D-9A63-94AFCE5C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321A9-102B-45D5-AFA5-904766D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45DDD-F873-4C5F-A646-636041FB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9C5E6-854B-4802-841D-E08F473B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0FE64-F1DE-4C70-8257-42845D97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D7BFA-0F14-40E0-BB76-DDD9441D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8602E4-8770-4101-8263-3CC55DE1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3043A-02F6-4100-92FF-8B6C987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0E4CF-4DD2-43CB-9B27-54EBF5E9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6427C-B600-46F5-9567-B4D9B367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29545-4563-4B27-A81B-7C73E12D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38396-46A9-4246-9DB8-AD12020D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46ACD-2DCE-4BB1-A7CB-4E467D22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50277-5A06-4B91-9B6A-BD7C239E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8A625-A2DF-40EF-9D84-AB273DF8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620C5-B07C-41B0-9D78-4272D942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21A4A-B1AE-486B-85CA-D63B66AD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26076-DEEC-4BDC-85BB-643B1EF1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5AE76-0E1F-4AA9-AF39-0832052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C4F31-DB9D-4BEF-8F80-5776577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E7A8E3-EE99-4699-8BD3-376B3A3E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51897-ED3B-4C0B-8C23-EE815F09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A38522-7C4F-4084-9CEC-B8380FC9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68240" y="7130880"/>
            <a:ext cx="3194280" cy="2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DD3AD-012B-4E14-9FDB-E103199704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529920" y="69627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69DE6-C0BF-4812-AA0E-B92C3506C068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467160" y="713232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7254720" y="69627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FD0FB-3E35-4F84-825F-70FAF220D93C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A5957-634C-442B-A082-16D6557C880C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51792-80F2-481C-8A87-9701412515B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Deaf Self-Advocacy Training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Module 6: Preparing for Self-Advoc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752120" y="6781320"/>
            <a:ext cx="6782040" cy="427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yriad Pro"/>
                <a:ea typeface="MS Gothic"/>
              </a:rPr>
              <a:t>This project is funded by The National Consortium of Interpreter Education Centers, with funding from the Department of Education, Rehabilitation Services Administration. #H160C030001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3" descr="NCIEC.png"/>
          <p:cNvPicPr/>
          <p:nvPr/>
        </p:nvPicPr>
        <p:blipFill>
          <a:blip r:embed="rId1"/>
          <a:stretch/>
        </p:blipFill>
        <p:spPr>
          <a:xfrm>
            <a:off x="275436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6.3: Calling with a Positive Attitu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406600"/>
            <a:ext cx="9067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6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Job Interview Letter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1645920"/>
            <a:ext cx="9132840" cy="525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yriad Pro"/>
                <a:ea typeface="MS Gothic"/>
              </a:rPr>
              <a:t>Letter for job interview.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yriad Pro"/>
                <a:ea typeface="MS Gothic"/>
              </a:rPr>
              <a:t>Company says it can’t afford an interpreter.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yriad Pro"/>
                <a:ea typeface="MS Gothic"/>
              </a:rPr>
              <a:t>Attitudes, solutions, and plans.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Goal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Myriad Pro"/>
                <a:ea typeface="MS Gothic"/>
              </a:rPr>
              <a:t>Know how to approach self-advocacy situation with the appropriate attitude, goals, and resources.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96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Attitude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1720" y="1569960"/>
            <a:ext cx="8917200" cy="526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What is </a:t>
            </a:r>
            <a:r>
              <a:rPr b="0" i="1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attitude</a:t>
            </a: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A tendency to respond positively or negatively towards a certain idea, object, person, or situation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How you feel or behave about something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Why is attitude important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6.1: Calling with a Negative Attitu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406600"/>
            <a:ext cx="89917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ヒラギノ角ゴ ProN W3"/>
                <a:ea typeface="MS Gothic"/>
              </a:rPr>
              <a:t>_x0016_ </a:t>
            </a: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6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40160" y="122040"/>
            <a:ext cx="6454800" cy="106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Requesting Interpr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4680" y="1112760"/>
            <a:ext cx="9069120" cy="6019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Which is better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74040" indent="-374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I’d like to request a sign language interpreter for the interview. Here’s how you can book for one; the agency to contact is Acme Interpreting Services. Their phone number is (123)456-7890.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74040" indent="-374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74040" indent="-374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I demand an interpreter for the interview. The law requires it. If you don’t, I’ll sue you for discrimination!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3120"/>
            <a:ext cx="9074160" cy="103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Having a Good Attitude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1360" y="1493640"/>
            <a:ext cx="8928360" cy="533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Confidence, positive, and assertive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Does not mean ignoring discrimination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Discrimination means to make decisions against you or in favor of you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60320" indent="-2919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Not always because you are deaf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60320" indent="-2919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May be due to other reasons such as gender, skin color, religion, age, or belief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Video 6.2: A Positive Attitude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2406600"/>
            <a:ext cx="9067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6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60800" y="23760"/>
            <a:ext cx="6912000" cy="101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Dealing with Discrimi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1360" y="1112760"/>
            <a:ext cx="9069480" cy="571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Normal to become angry or disappointed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Assume good intention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Think of potential good solution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Role-play different situation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Think about different solution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12204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How to Plan for an Interpreter Requ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1493640"/>
            <a:ext cx="9074160" cy="556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Have control over your behavior and attitud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Be prepared when you request for an interpreter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Have an action plan ready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Know your right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Work with local agencies and resourc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8:18:17Z</dcterms:created>
  <dc:creator>Selina</dc:creator>
  <dc:description/>
  <dc:language>en-US</dc:language>
  <cp:lastModifiedBy>Bailey Westerhoff</cp:lastModifiedBy>
  <dcterms:modified xsi:type="dcterms:W3CDTF">2013-09-05T21:38:31Z</dcterms:modified>
  <cp:revision>11</cp:revision>
  <dc:subject/>
  <dc:title>Deaf Self-Advocacy Training Module 6: Preparing for Self-Advocacy</dc:title>
</cp:coreProperties>
</file>