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7012-A487-4983-92E4-87DA483C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2423-EF7D-40F7-8355-28835C57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7C43-8EF8-45DD-9FC6-8BBC5A19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3E3F-9C0E-46B9-9969-93728126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9758-50A5-4799-A07F-332B317A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1922-E11E-4FEE-ACF8-5969D009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0B2B-9534-4B1E-A019-7D287089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CCE6-0A79-4428-B89E-B13366E8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DDD6-CF25-4436-A091-1D8FF82E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224C-C025-4305-A71E-4A83D38D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AD27-7AE1-4945-9B4F-9F071D2B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0B9A-B45F-4E37-84AA-702182EF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EA9C-3F43-46DD-B5DC-1394BCA3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290E-969E-4165-A178-64135E97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BC30-40E4-4DC2-A3D6-C8243E8B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ED6D-F06D-4BCE-903C-1F983261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B2B8-CFAB-4E08-A95F-03B02CB5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FCAE-D31A-4655-A3D5-703AD24D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CB21-C505-48FE-B883-67645752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5FC5-C0D4-4B18-A208-7D2195A0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2CA4-F004-4670-8266-AB2D8DE1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E7D2-90EE-47FC-8223-B24BE8E9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AC82-CF61-44DD-9270-3E5C11BF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D1DC-6501-4F87-B8B9-62EA3310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ffffff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ffffff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ffffff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5B5BB-2CF9-4036-9DB5-456D84BBED50}" type="slidenum"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3" marL="1763640" indent="-250920">
              <a:spcBef>
                <a:spcPts val="876"/>
              </a:spcBef>
              <a:buClr>
                <a:srgbClr val="ffffff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ffffff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ffffff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ffffff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506C2-1DEE-4F44-9E82-1BDA645BA885}" type="datetime"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© NCIEC 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3537D6-A5AE-484C-B567-003AC096CFAA}" type="slidenum"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234792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Deaf Self-Advocacy Training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Module 1: Importance for Advocating Yourself and Oth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76520" y="6781680"/>
            <a:ext cx="6781680" cy="45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yriad Pro"/>
                <a:ea typeface="MS Gothic"/>
              </a:rPr>
              <a:t>This project is funded by The National Consortium of Interpreter Education Centers, funding from the U.S. Department of Education, Rehabilitation Services Administration. H160C030001.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3" descr="NCIEC.png"/>
          <p:cNvPicPr/>
          <p:nvPr/>
        </p:nvPicPr>
        <p:blipFill>
          <a:blip r:embed="rId1"/>
          <a:stretch/>
        </p:blipFill>
        <p:spPr>
          <a:xfrm>
            <a:off x="2678040" y="4724280"/>
            <a:ext cx="458460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Video 1.3: Americans with Disabilities Ac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406240"/>
            <a:ext cx="91440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Video Shown Here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eeece1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8545680" y="6827760"/>
            <a:ext cx="12189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</a:rPr>
              <a:t>(Video 1.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457200" y="6477120"/>
            <a:ext cx="37339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yriad Pro"/>
              </a:rPr>
              <a:t>Howard Rosenblum, Esq. CEO of N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87520" y="198000"/>
            <a:ext cx="6607080" cy="1219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Laws Affecting Our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Civil Righ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1720" y="1569960"/>
            <a:ext cx="8547120" cy="526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370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yriad Pro"/>
                <a:ea typeface="MS Gothic"/>
              </a:rPr>
              <a:t>Early Hearing Detection and Intervention Ac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yriad Pro"/>
                <a:ea typeface="MS Gothic"/>
              </a:rPr>
              <a:t>Individuals with Disabilities Education Act (IDEA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yriad Pro"/>
                <a:ea typeface="MS Gothic"/>
              </a:rPr>
              <a:t>Rehabilitation Act of 1973 (Title I, Title V: 501-504 &amp; 508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yriad Pro"/>
                <a:ea typeface="MS Gothic"/>
              </a:rPr>
              <a:t>Air Carriers Access Ac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yriad Pro"/>
                <a:ea typeface="MS Gothic"/>
              </a:rPr>
              <a:t>Television Decoder Circuitry Ac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yriad Pro"/>
                <a:ea typeface="MS Gothic"/>
              </a:rPr>
              <a:t>Help America Vote Ac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yriad Pro"/>
                <a:ea typeface="MS Gothic"/>
              </a:rPr>
              <a:t>21</a:t>
            </a:r>
            <a:r>
              <a:rPr b="0" lang="en-US" sz="2800" spc="-1" strike="noStrike" baseline="30000">
                <a:solidFill>
                  <a:srgbClr val="ffff00"/>
                </a:solidFill>
                <a:latin typeface="Myriad Pro"/>
                <a:ea typeface="MS Gothic"/>
              </a:rPr>
              <a:t>st</a:t>
            </a:r>
            <a:r>
              <a:rPr b="0" lang="en-US" sz="2800" spc="-1" strike="noStrike">
                <a:solidFill>
                  <a:srgbClr val="ffff00"/>
                </a:solidFill>
                <a:latin typeface="Myriad Pro"/>
                <a:ea typeface="MS Gothic"/>
              </a:rPr>
              <a:t> Century Communications and Video Accessibility Ac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yriad Pro"/>
                <a:ea typeface="MS Gothic"/>
              </a:rPr>
              <a:t>Fair Housing Act. (Title III of ADA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yriad Pro"/>
                <a:ea typeface="MS Gothic"/>
              </a:rPr>
              <a:t>And more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70440" indent="-370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77482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5726160" y="6675480"/>
            <a:ext cx="3886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</a:rPr>
              <a:t>http://nad.org/issues/civil-righ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25960" y="351000"/>
            <a:ext cx="5246640" cy="1363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Communication Acc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1360" y="1722600"/>
            <a:ext cx="9069480" cy="4419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yriad Pro"/>
                <a:ea typeface="MS Gothic"/>
              </a:rPr>
              <a:t>What does communication access mean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68240" indent="-2952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Myriad Pro"/>
                <a:ea typeface="MS Gothic"/>
              </a:rPr>
              <a:t>Having the chance to fully understand everything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68240" indent="-2952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55320" indent="-3553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yriad Pro"/>
                <a:ea typeface="MS Gothic"/>
              </a:rPr>
              <a:t>Why is communication access important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55320" indent="-3553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yriad Pro"/>
                <a:ea typeface="MS Gothic"/>
              </a:rPr>
              <a:t>What are examples of communication access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68240" indent="-2952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768240" indent="-295200"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77482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85800" y="60958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Myriad Pro"/>
                <a:ea typeface="MS Gothic"/>
              </a:rPr>
              <a:t>Our focus in this training is on interpreting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54560" y="122400"/>
            <a:ext cx="5486400" cy="1449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Video 1.4: Improving Communic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107040" y="2514600"/>
            <a:ext cx="34941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Video Shown Her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spcBef>
                <a:spcPts val="11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77482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8545680" y="682776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</a:rPr>
              <a:t>(Video 1.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392040" y="1646280"/>
            <a:ext cx="5421240" cy="51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ffffff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yriad Pro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Myriad Pro"/>
              </a:rPr>
              <a:t>How was communication access achiev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Myriad Pro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Myriad Pro"/>
              </a:rPr>
              <a:t>What are the advantag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Myriad Pro"/>
              </a:rPr>
              <a:t>of achieving this assertively and peacefu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Video 1.5: Checking on an Interpreter Reques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487920" y="2406600"/>
            <a:ext cx="311292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Video Shown Here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77482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8545680" y="690408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</a:rPr>
              <a:t>(Video 1.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380880" y="2484360"/>
            <a:ext cx="5497560" cy="48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ffffff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Myriad Pro"/>
              </a:rPr>
              <a:t>  </a:t>
            </a:r>
            <a:r>
              <a:rPr b="0" lang="en-US" sz="4200" spc="-1" strike="noStrike">
                <a:solidFill>
                  <a:srgbClr val="ffff00"/>
                </a:solidFill>
                <a:latin typeface="Myriad Pro"/>
              </a:rPr>
              <a:t>How do you follow up on your request for interpreting service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Myriad Pro"/>
              </a:rPr>
              <a:t>  </a:t>
            </a:r>
            <a:r>
              <a:rPr b="0" lang="en-US" sz="4200" spc="-1" strike="noStrike">
                <a:solidFill>
                  <a:srgbClr val="ffff00"/>
                </a:solidFill>
                <a:latin typeface="Myriad Pro"/>
              </a:rPr>
              <a:t>Who should you ask when you follow up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63840" y="274680"/>
            <a:ext cx="6378480" cy="1363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Applying Your Learn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1720" y="1798200"/>
            <a:ext cx="8623440" cy="5032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Myriad Pro"/>
                <a:ea typeface="MS Gothic"/>
              </a:rPr>
              <a:t>YMCA exercise class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Myriad Pro"/>
                <a:ea typeface="MS Gothic"/>
              </a:rPr>
              <a:t>Things to think about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Myriad Pro"/>
                <a:ea typeface="MS Gothic"/>
              </a:rPr>
              <a:t>Alternatives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Myriad Pro"/>
                <a:ea typeface="MS Gothic"/>
              </a:rPr>
              <a:t>Accounting class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Myriad Pro"/>
                <a:ea typeface="MS Gothic"/>
              </a:rPr>
              <a:t>Things to think about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Myriad Pro"/>
                <a:ea typeface="MS Gothic"/>
              </a:rPr>
              <a:t>Alternatives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77482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Myriad Pro"/>
                <a:ea typeface="MS Gothic"/>
              </a:rPr>
              <a:t>Introduction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What is this course?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Why is it important?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What will you learn?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How it will help you?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What will you do?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eeece1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Myriad Pro"/>
                <a:ea typeface="MS Gothic"/>
              </a:rPr>
              <a:t>Goal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Myriad Pro"/>
                <a:ea typeface="MS Gothic"/>
              </a:rPr>
              <a:t>Participants will identify the difference between advocacy and self-advocacy to develop applicable skills for communication access advocacy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77482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Myriad Pro"/>
                <a:ea typeface="MS Gothic"/>
              </a:rPr>
              <a:t>Video 1.1: Introduction to DSAT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440" y="2406600"/>
            <a:ext cx="891540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Video Shown Here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77482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8545680" y="6827760"/>
            <a:ext cx="12189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</a:rPr>
              <a:t>(Video 1.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Video 1.2: Communication Access Challenge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792480" y="2514600"/>
            <a:ext cx="28083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Video Shown Here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440160" y="6980400"/>
            <a:ext cx="31906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77482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8545680" y="6827760"/>
            <a:ext cx="12189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2060"/>
                </a:solidFill>
                <a:latin typeface="Myriad Pro"/>
              </a:rPr>
              <a:t>(Video 1.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316080" y="2789280"/>
            <a:ext cx="571500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ffffff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Myriad Pro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Myriad Pro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Myriad Pro"/>
              </a:rPr>
              <a:t>Think about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ffffff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Myriad Pro"/>
                <a:ea typeface="ＭＳ Ｐゴシック"/>
              </a:rPr>
              <a:t>Frustration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ffffff"/>
              </a:buClr>
              <a:buSzPct val="75000"/>
              <a:buFont typeface="Myriad Pro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Myriad Pro"/>
                <a:ea typeface="ＭＳ Ｐゴシック"/>
              </a:rPr>
              <a:t>Solution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ffffff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</a:rPr>
              <a:t>  </a:t>
            </a:r>
            <a:r>
              <a:rPr b="0" lang="en-US" sz="4400" spc="-1" strike="noStrike">
                <a:solidFill>
                  <a:srgbClr val="ffff00"/>
                </a:solidFill>
                <a:latin typeface="Myriad Pro"/>
              </a:rPr>
              <a:t>What should you do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Myriad Pro"/>
                <a:ea typeface="MS Gothic"/>
              </a:rPr>
              <a:t>Advocacy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000" y="1569960"/>
            <a:ext cx="8699400" cy="4724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4040" indent="-374040">
              <a:lnSpc>
                <a:spcPct val="100000"/>
              </a:lnSpc>
              <a:spcBef>
                <a:spcPts val="975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900" spc="-1" strike="noStrike">
                <a:solidFill>
                  <a:srgbClr val="ffff00"/>
                </a:solidFill>
                <a:latin typeface="Myriad Pro"/>
                <a:ea typeface="MS Gothic"/>
              </a:rPr>
              <a:t>What does </a:t>
            </a:r>
            <a:r>
              <a:rPr b="0" i="1" lang="en-US" sz="3900" spc="-1" strike="noStrike">
                <a:solidFill>
                  <a:srgbClr val="ffff00"/>
                </a:solidFill>
                <a:latin typeface="Myriad Pro"/>
                <a:ea typeface="MS Gothic"/>
              </a:rPr>
              <a:t>advocacy</a:t>
            </a:r>
            <a:r>
              <a:rPr b="0" lang="en-US" sz="3900" spc="-1" strike="noStrike">
                <a:solidFill>
                  <a:srgbClr val="ffff00"/>
                </a:solidFill>
                <a:latin typeface="Myriad Pro"/>
                <a:ea typeface="MS Gothic"/>
              </a:rPr>
              <a:t> mean?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  <a:p>
            <a:pPr lvl="1" marL="809280" indent="-311040">
              <a:lnSpc>
                <a:spcPct val="100000"/>
              </a:lnSpc>
              <a:spcBef>
                <a:spcPts val="975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3900" spc="-1" strike="noStrike">
                <a:solidFill>
                  <a:srgbClr val="ffff00"/>
                </a:solidFill>
                <a:latin typeface="Myriad Pro"/>
                <a:ea typeface="MS Gothic"/>
              </a:rPr>
              <a:t>Support and education.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  <a:p>
            <a:pPr lvl="1" marL="809280" indent="-311040">
              <a:lnSpc>
                <a:spcPct val="100000"/>
              </a:lnSpc>
              <a:spcBef>
                <a:spcPts val="975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3900" spc="-1" strike="noStrike">
                <a:solidFill>
                  <a:srgbClr val="ffff00"/>
                </a:solidFill>
                <a:latin typeface="Myriad Pro"/>
                <a:ea typeface="MS Gothic"/>
              </a:rPr>
              <a:t>Making the things you need happen.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  <a:p>
            <a:pPr marL="374040" indent="-374040">
              <a:lnSpc>
                <a:spcPct val="100000"/>
              </a:lnSpc>
              <a:spcBef>
                <a:spcPts val="975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900" spc="-1" strike="noStrike">
                <a:solidFill>
                  <a:srgbClr val="ffff00"/>
                </a:solidFill>
                <a:latin typeface="Myriad Pro"/>
                <a:ea typeface="MS Gothic"/>
              </a:rPr>
              <a:t>Why is advocacy important?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  <a:p>
            <a:pPr lvl="1" marL="809280" indent="-311040">
              <a:lnSpc>
                <a:spcPct val="100000"/>
              </a:lnSpc>
              <a:spcBef>
                <a:spcPts val="975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3900" spc="-1" strike="noStrike">
                <a:solidFill>
                  <a:srgbClr val="ffff00"/>
                </a:solidFill>
                <a:latin typeface="Myriad Pro"/>
                <a:ea typeface="MS Gothic"/>
              </a:rPr>
              <a:t>What would happen if nobody advocated?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77482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63440" y="6294600"/>
            <a:ext cx="100584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Myriad Pro"/>
              </a:rPr>
              <a:t>Have you advocated for something befo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Myriad Pro"/>
                <a:ea typeface="MS Gothic"/>
              </a:rPr>
              <a:t>Ways to Advocate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How can you advocate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Know your rights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Get support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Contact the people involved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Talk to the media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77482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54560" y="883800"/>
            <a:ext cx="5246640" cy="116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Myriad Pro"/>
                <a:ea typeface="MS Gothic"/>
              </a:rPr>
              <a:t>Self-Advocacy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981080"/>
            <a:ext cx="9069120" cy="505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Myriad Pro"/>
                <a:ea typeface="MS Gothic"/>
              </a:rPr>
              <a:t>How is </a:t>
            </a:r>
            <a:r>
              <a:rPr b="0" i="1" lang="en-US" sz="3500" spc="-1" strike="noStrike">
                <a:solidFill>
                  <a:srgbClr val="ffff00"/>
                </a:solidFill>
                <a:latin typeface="Myriad Pro"/>
                <a:ea typeface="MS Gothic"/>
              </a:rPr>
              <a:t>self-advocacy</a:t>
            </a:r>
            <a:r>
              <a:rPr b="0" lang="en-US" sz="3500" spc="-1" strike="noStrike">
                <a:solidFill>
                  <a:srgbClr val="ffff00"/>
                </a:solidFill>
                <a:latin typeface="Myriad Pro"/>
                <a:ea typeface="MS Gothic"/>
              </a:rPr>
              <a:t> different from </a:t>
            </a:r>
            <a:r>
              <a:rPr b="0" i="1" lang="en-US" sz="3500" spc="-1" strike="noStrike">
                <a:solidFill>
                  <a:srgbClr val="ffff00"/>
                </a:solidFill>
                <a:latin typeface="Myriad Pro"/>
                <a:ea typeface="MS Gothic"/>
              </a:rPr>
              <a:t>advocacy</a:t>
            </a:r>
            <a:r>
              <a:rPr b="0" lang="en-US" sz="3500" spc="-1" strike="noStrike">
                <a:solidFill>
                  <a:srgbClr val="ffff00"/>
                </a:solidFill>
                <a:latin typeface="Myriad Pro"/>
                <a:ea typeface="MS Gothic"/>
              </a:rPr>
              <a:t>?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Myriad Pro"/>
                <a:ea typeface="MS Gothic"/>
              </a:rPr>
              <a:t>Advocating for yourself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Myriad Pro"/>
                <a:ea typeface="MS Gothic"/>
              </a:rPr>
              <a:t>Knowing what you need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ffff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ffff00"/>
                </a:solidFill>
                <a:latin typeface="Myriad Pro"/>
                <a:ea typeface="MS Gothic"/>
              </a:rPr>
              <a:t>Why is self-advocacy important?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Myriad Pro"/>
                <a:ea typeface="MS Gothic"/>
              </a:rPr>
              <a:t>Helps build confidenc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Myriad Pro"/>
                <a:ea typeface="MS Gothic"/>
              </a:rPr>
              <a:t>Gives you more opportuniti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Myriad Pro"/>
                <a:ea typeface="MS Gothic"/>
              </a:rPr>
              <a:t>Gives other Deaf people more opportuniti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Myriad Pro"/>
                <a:ea typeface="MS Gothic"/>
              </a:rPr>
              <a:t>Gives you equal acces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817560" indent="-314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Myriad Pro"/>
                <a:ea typeface="MS Gothic"/>
              </a:rPr>
              <a:t>Teaches hearing people something new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eeece1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198360"/>
            <a:ext cx="6835680" cy="1363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yriad Pro"/>
                <a:ea typeface="MS Gothic"/>
              </a:rPr>
              <a:t>Seven Steps to Self-Advoc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201920" y="1645920"/>
            <a:ext cx="5475240" cy="4956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22440" indent="-51444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Myriad Pro"/>
              <a:buAutoNum type="arabicPeriod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Myriad Pro"/>
                <a:ea typeface="MS Gothic"/>
              </a:rPr>
              <a:t>Request specific accommodation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622440" indent="-51444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Myriad Pro"/>
              <a:buAutoNum type="arabicPeriod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Myriad Pro"/>
                <a:ea typeface="MS Gothic"/>
              </a:rPr>
              <a:t>Know your right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622440" indent="-51444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Myriad Pro"/>
              <a:buAutoNum type="arabicPeriod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Myriad Pro"/>
                <a:ea typeface="MS Gothic"/>
              </a:rPr>
              <a:t>Educate other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622440" indent="-51444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Myriad Pro"/>
              <a:buAutoNum type="arabicPeriod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Myriad Pro"/>
                <a:ea typeface="MS Gothic"/>
              </a:rPr>
              <a:t>Know who you are dealing with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622440" indent="-51444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Myriad Pro"/>
              <a:buAutoNum type="arabicPeriod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Myriad Pro"/>
                <a:ea typeface="MS Gothic"/>
              </a:rPr>
              <a:t>Follow procedur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622440" indent="-51444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Myriad Pro"/>
              <a:buAutoNum type="arabicPeriod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Myriad Pro"/>
                <a:ea typeface="MS Gothic"/>
              </a:rPr>
              <a:t>Be tactful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622440" indent="-51444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Font typeface="Myriad Pro"/>
              <a:buAutoNum type="arabicPeriod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Myriad Pro"/>
                <a:ea typeface="MS Gothic"/>
              </a:rPr>
              <a:t>Compromis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444840" y="7007400"/>
            <a:ext cx="31910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177482"/>
                </a:solidFill>
                <a:latin typeface="Myriad Pro"/>
              </a:rPr>
              <a:t>© NCIEC 201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316080" y="1735200"/>
            <a:ext cx="358128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Myriad Pro"/>
              </a:rPr>
              <a:t>The following steps are recommended by the National Association of the Deaf (NAD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2:24:05Z</dcterms:created>
  <dc:creator>Selina</dc:creator>
  <dc:description/>
  <dc:language>en-US</dc:language>
  <cp:lastModifiedBy>Bailey Westerhoff</cp:lastModifiedBy>
  <dcterms:modified xsi:type="dcterms:W3CDTF">2013-09-05T21:33:59Z</dcterms:modified>
  <cp:revision>22</cp:revision>
  <dc:subject/>
  <dc:title>Deaf Self-Advocacy Training Module 1: Importance for Advocating Yourself and Others</dc:title>
</cp:coreProperties>
</file>