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FA254-56D8-4173-9638-9B9E25CA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97727-5B6C-433B-9F20-4BAD983B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04489-398F-4A8A-BC50-AC404240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B243C-3484-4677-BC21-89A946A5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A5666-087F-41C8-B56D-91E30FF6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9E494-5F87-4D53-8C9B-7224DF42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7D2ED-072B-43CB-B647-9C3F1245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421F1-B811-4E76-A6BC-491F529E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34D5F-835C-4DDD-9BC5-C8E3B3D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4F660-4870-41F5-9EE9-8401E27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0D10D-F29E-477C-80FB-2475546D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C4D38-D003-4FF7-A705-CDE4E59D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9EBAD-0C21-427C-A857-466FFE61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5C1D-B980-4C31-A137-278E421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497C7-E14F-469A-9851-CF4C520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48CC3-B400-42A5-A9D0-008E6CD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640C6-8336-4474-9200-4D2A9977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2914F-7613-4EE5-B49D-1DA77AC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F8BBA-A4CB-4297-9530-00FD22F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CB346-3258-4BC9-8C07-0AC90228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BB5D-37AB-4E36-B5D9-707ED3F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22BEA-718D-420B-8ED1-D80504E9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9B5E4-B66C-494B-83B1-ED3EDA64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1B0BA-3EC1-4E8F-B580-E1D3005E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305AE-1E64-4045-82A8-7AD6EB6D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9C9C2-FD31-4D3B-AD8F-616FC3C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4A4E0-AEF9-4FE1-BCFA-E9E12DC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0DA35-BBCC-4F04-99C8-4876F00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B2A6E-040E-4D35-8BCA-B479D68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E15AA-3A55-481E-967C-D07ADC0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FFDEA-915E-443D-91FF-D0453E21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6B320-A8C9-45CD-909B-870AD0C1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2A062-735C-4E20-9C80-E686400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3BFDC7-3A07-480A-9756-4A00D4AE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EEC46-6048-430D-9BFA-C4F99877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FA3E7-DFF0-481A-A936-56FF77B9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68240" y="7130880"/>
            <a:ext cx="3194280" cy="2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9959A-3568-4313-B079-00989BA803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529920" y="69627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1820F-302D-4AD1-BF63-C55C529B64AF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467160" y="713232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7254720" y="69627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22C05-8AC0-4A93-ADAC-6A4310BA7C7E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B3600D-7976-43AE-A5B7-33C5BF75FB2D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F404D-A7DE-4553-8E74-417EEC42BAA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lf-Advocacy Training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odule 7: Utilizing Resources for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6705720"/>
            <a:ext cx="7086600" cy="42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This project is funded by The National Consortium of Interpreter Education Centers, with funding from the Department  of Education, Rehabilitation Services Administration. #H160C030001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3" descr="NCIEC.png"/>
          <p:cNvPicPr/>
          <p:nvPr/>
        </p:nvPicPr>
        <p:blipFill>
          <a:blip r:embed="rId1"/>
          <a:stretch/>
        </p:blipFill>
        <p:spPr>
          <a:xfrm>
            <a:off x="305928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Getting the Information You Nee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341360"/>
            <a:ext cx="10080720" cy="563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Contacting agencies can be hard work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Think about what you want to ask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Prepare your questions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Have a list of resources and their contact information ready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Plan your time well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  <a:ea typeface="MS Gothic"/>
              </a:rPr>
              <a:t>Have a positive attitude.</a:t>
            </a:r>
            <a:endParaRPr b="0" lang="en-US" sz="4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The Real World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5000"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Create an action plan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Identify what you need to do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List resources you have and need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Decide how you move forward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Use worksheets given to you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City Council Meeting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1360" y="1646280"/>
            <a:ext cx="9069480" cy="518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Find out what the law is for providing interpreters at your city council meeting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Remember to plan well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Keep up a positive attitude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7.3: Advocating for Your Need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285640"/>
            <a:ext cx="899172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8545680" y="682776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7.4: More Advocacy Stori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406600"/>
            <a:ext cx="89917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3467160" y="7132680"/>
            <a:ext cx="3193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8545680" y="6827760"/>
            <a:ext cx="1371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-360"/>
            <a:ext cx="9074160" cy="111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Review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1360" y="1189080"/>
            <a:ext cx="4280040" cy="564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7000"/>
          </a:bodyPr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Advocacy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Communication acces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Self-advocacy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Self-esteem 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Self-determination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66480" indent="-3664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Accommodation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583160" y="1112760"/>
            <a:ext cx="4952880" cy="64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Qualified   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	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interpret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Reasonable  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accommodation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Ethic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Behavior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Grievanc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Attitud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Video Conferenc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3800" spc="-1" strike="noStrike">
                <a:solidFill>
                  <a:srgbClr val="ffff00"/>
                </a:solidFill>
                <a:latin typeface="Myriad Pro"/>
              </a:rPr>
              <a:t>Broadban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354560" y="426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7.5: Congratulations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2209320"/>
            <a:ext cx="906768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58720" y="1874880"/>
            <a:ext cx="7608600" cy="4648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Myriad Pro"/>
                <a:ea typeface="MS Gothic"/>
              </a:rPr>
              <a:t>Congratulations!</a:t>
            </a: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ffff00"/>
                </a:solidFill>
                <a:latin typeface="Myriad Pro"/>
                <a:ea typeface="MS Gothic"/>
              </a:rPr>
              <a:t> Good luck in your self-advocacy!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Goal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yriad Pro"/>
                <a:ea typeface="MS Gothic"/>
              </a:rPr>
              <a:t>Identify local, state,  and national resources in order to apply learned skills in self-advocating for communication access.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74160" cy="103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Community Resource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569960"/>
            <a:ext cx="10080720" cy="5639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5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Myriad Pro"/>
                <a:ea typeface="MS Gothic"/>
              </a:rPr>
              <a:t>What is a resource?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5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600" spc="-1" strike="noStrike">
                <a:solidFill>
                  <a:srgbClr val="ffff00"/>
                </a:solidFill>
                <a:latin typeface="Myriad Pro"/>
                <a:ea typeface="MS Gothic"/>
              </a:rPr>
              <a:t>Source of support or assistance.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5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600" spc="-1" strike="noStrike">
                <a:solidFill>
                  <a:srgbClr val="ffff00"/>
                </a:solidFill>
                <a:latin typeface="Myriad Pro"/>
                <a:ea typeface="MS Gothic"/>
              </a:rPr>
              <a:t>Can help you reach your goals or advocate.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5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600" spc="-1" strike="noStrike">
                <a:solidFill>
                  <a:srgbClr val="ffff00"/>
                </a:solidFill>
                <a:latin typeface="Myriad Pro"/>
                <a:ea typeface="MS Gothic"/>
              </a:rPr>
              <a:t>Can be agencies, people, or information.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5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Myriad Pro"/>
                <a:ea typeface="MS Gothic"/>
              </a:rPr>
              <a:t>Why are resources important?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Possible Resource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1680" y="1341000"/>
            <a:ext cx="9525240" cy="548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Commissions for Deaf and Hard of Hearing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rvice Agencie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Human Rights Commission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Independent Living Center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Legal Agencies and Assistance Center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Membership Advocacy Organization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Vocational Rehabilitation Agencies.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7.1: Resources Available to You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440" y="2285640"/>
            <a:ext cx="89154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embership Advocacy Organiz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763640"/>
            <a:ext cx="9917280" cy="529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American Association of the Deaf-Bli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Deaf Women Uni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Hearing Loss Association of Americ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National Asian Deaf Congr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National Association of the Deaf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National Black Deaf Advoca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National Council of Hispano Deaf and Hard of Hear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Registry of Interpreters for the Deaf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Other Resource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1720" y="1950840"/>
            <a:ext cx="9156960" cy="487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People you know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Local agencie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Internet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Other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14440" y="912960"/>
            <a:ext cx="547524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7.2: Collecting Information with a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788920"/>
            <a:ext cx="89917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7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Finding Resource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1720" y="1646280"/>
            <a:ext cx="8699760" cy="518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Use the Internet to find resource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Plan how you will approach each resource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Make a list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8:56:26Z</dcterms:created>
  <dc:creator>Selina</dc:creator>
  <dc:description/>
  <dc:language>en-US</dc:language>
  <cp:lastModifiedBy>Bailey Westerhoff</cp:lastModifiedBy>
  <dcterms:modified xsi:type="dcterms:W3CDTF">2013-09-05T21:31:01Z</dcterms:modified>
  <cp:revision>15</cp:revision>
  <dc:subject/>
  <dc:title>Deaf Self-Advocacy Training Module 7: Utilizing Resources for Action</dc:title>
</cp:coreProperties>
</file>