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0B7D3-C680-425F-8AD3-E93E9660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5FA4E-299C-4B41-A34A-49BF087E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E830E-4B1B-41ED-A0B3-35C4E0FA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02D79-3085-46BF-993E-4CC48B5E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E4795-DD37-4487-A695-36BFF468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92544-5C11-482C-889F-6E74FC76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7F923-1D6E-45D7-B5C4-0567EE43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FDE61-E403-43BF-BE62-9510B141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67509-4AAC-4274-847C-EF5D4E2F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C392A-B350-4E0E-8BEE-4E1865B3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5D8AC-09C1-45D6-A2F7-D7132369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58853-2B5A-4C42-8C66-EA50B4F9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6160F-2868-4C2D-B675-5D79F045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4E8F6-668E-46C4-83EA-6CED1625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E2292-FA3D-4340-ABA2-E0B64D2C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65D2B-D096-4015-BF66-B1F715C3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30083-9499-4601-AD64-C130DB12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6ED3FA-B077-46A8-A5B1-0ED23870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5FF247-DB1A-4E4E-9EFD-5BB2A297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AC579-C3D8-43B5-A5FB-627B2257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123D88-840E-4D05-8295-5D7BB32F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D1635-B7AE-4331-BBED-1AE0B45C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44338-D5AB-4DD3-A11E-0F7157CE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90325-66AA-4E8A-A6D9-09182D61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8E637-39E7-4B2A-8076-A0C2C969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5E13C-7C10-411A-A1B5-C788FB41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A9889-BAD6-4674-A744-5E8A6A85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46956-B907-4031-84E2-9C963C88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00F4C-F8DF-4442-ABAC-487056D8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8FC86-3781-43F5-9A94-8C592ED5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A653D-CFAC-447A-8639-255A8D4C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44BB5-AA85-461A-AE26-434AF4F2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5198A-F69B-4B9B-9968-2F9B341B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8526B-BEF2-466C-B24A-ABD82185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B504A-C271-413F-95D5-5D384317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D65D9-5D2D-4247-BFBE-52874F78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468240" y="7130880"/>
            <a:ext cx="3194280" cy="2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5495F-BA89-4DA2-A68B-BB4FDB9BC4FD}" type="slidenum"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440160" y="705600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529920" y="69627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F757F-4885-4AD8-A0C5-1984A9238B65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3467160" y="713232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7254720" y="69627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BA1D0-C63F-43BA-BC23-8C440D88B47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E0ABA-130E-48DD-8128-B04A22BE7F0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0"/>
          </p:nvPr>
        </p:nvSpPr>
        <p:spPr>
          <a:xfrm>
            <a:off x="3440160" y="705600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77482"/>
                </a:solidFill>
                <a:latin typeface="Myriad Pro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9B4C4-3431-4E80-85D6-AA71E5388B6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Deaf Self-Advocacy Training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Module 4: Ethics of Working with Interpre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599840" y="6705720"/>
            <a:ext cx="7010280" cy="42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yriad Pro"/>
                <a:ea typeface="MS Gothic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Myriad Pro"/>
                <a:ea typeface="MS Gothic"/>
              </a:rPr>
              <a:t>This  project is funded by The National Consortium of Interpreter Education Centers with funding from the  U.S. Department  of  Education, Rehabilitation Services Administration. #H160C03000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7" name="Picture 3" descr="NCIEC.png"/>
          <p:cNvPicPr/>
          <p:nvPr/>
        </p:nvPicPr>
        <p:blipFill>
          <a:blip r:embed="rId1"/>
          <a:stretch/>
        </p:blipFill>
        <p:spPr>
          <a:xfrm>
            <a:off x="2730600" y="4764240"/>
            <a:ext cx="45846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96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Filing a Complaint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1569960"/>
            <a:ext cx="9074160" cy="518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If you are not satisfied with a RID-certified interpreter, you can file a grievance or complain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1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File within 90 day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1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Go through mediation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1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If that does not work, a hearing will be held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Common Problems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1417320"/>
            <a:ext cx="9074160" cy="5335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3000"/>
          </a:bodyPr>
          <a:p>
            <a:pPr marL="351360" indent="-3513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Interpreters acting as “helpers.”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1360" indent="-3513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Children interpreting for adult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1360" indent="-3513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Interpreters charging too much or too little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1360" indent="-35136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Other problem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4.5: How to Work with Interpret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406600"/>
            <a:ext cx="899172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11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8545680" y="6827760"/>
            <a:ext cx="1218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4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373120" y="351000"/>
            <a:ext cx="7368840" cy="136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Explaining How to Work with an Interpr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392040" y="2179800"/>
            <a:ext cx="876312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31640" indent="-215640">
              <a:lnSpc>
                <a:spcPct val="93000"/>
              </a:lnSpc>
              <a:buClr>
                <a:srgbClr val="ffff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ＭＳ Ｐゴシック"/>
              </a:rPr>
              <a:t>Explain to a hearing person on how to work with an interpret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ffff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ＭＳ Ｐゴシック"/>
              </a:rPr>
              <a:t>Use the tip sheet from the appendix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 rot="10800000">
            <a:off x="503280" y="6752520"/>
            <a:ext cx="117360" cy="15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Video 4.6:  Prepared Interpreter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440" y="2406600"/>
            <a:ext cx="89154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4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Goal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Understand the roles of interpreters, and how to effectively work with interpreter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4440" y="912960"/>
            <a:ext cx="5475240" cy="1373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4.1:  Unprepared Interpre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1760" y="3246120"/>
            <a:ext cx="8839080" cy="35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11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4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96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Interpreter Ethics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3280" y="1494000"/>
            <a:ext cx="9074160" cy="5867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3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Ethics show the values of each person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83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They become clear through action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83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They help people decide what is right or wrong.</a:t>
            </a: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83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They are not the same for each person.</a:t>
            </a: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83000"/>
              </a:lnSpc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83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How do we know what to expect from interpreter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83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558680" y="716292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2040" y="27432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4.2: RID Code of Professional Condu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48880" y="2406600"/>
            <a:ext cx="87519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4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Code of Professional Conduct Tene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717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Interpreters adhere to standards of confidential communic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717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Interpreters possess the professional skills and knowledge required for the specific interpreting sit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717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Interpreters conduct themselves in a manner appropriate to the specific interpreting situ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717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Interpreters demonstrate respect for custom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Code of Professional Conduct Tene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03280" y="1763640"/>
            <a:ext cx="9337680" cy="5445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24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700" spc="-1" strike="noStrike">
                <a:solidFill>
                  <a:srgbClr val="ffff00"/>
                </a:solidFill>
                <a:latin typeface="Calibri"/>
              </a:rPr>
              <a:t>(continued)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924"/>
              </a:spcBef>
              <a:buClr>
                <a:srgbClr val="ffff00"/>
              </a:buClr>
              <a:buFont typeface="Calibri"/>
              <a:buAutoNum type="arabicParenR" startAt="5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Calibri"/>
              </a:rPr>
              <a:t>Interpreters demonstrate respect for colleagues, interns, and students of the profession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924"/>
              </a:spcBef>
              <a:buClr>
                <a:srgbClr val="ffff00"/>
              </a:buClr>
              <a:buFont typeface="Calibri"/>
              <a:buAutoNum type="arabicParenR" startAt="5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Calibri"/>
              </a:rPr>
              <a:t>Interpreters maintain ethical business practices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924"/>
              </a:spcBef>
              <a:buClr>
                <a:srgbClr val="ffff00"/>
              </a:buClr>
              <a:buFont typeface="Calibri"/>
              <a:buAutoNum type="arabicParenR" startAt="5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Calibri"/>
              </a:rPr>
              <a:t>Interpreters engage in professional development.</a:t>
            </a:r>
            <a:endParaRPr b="0" lang="en-US" sz="3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4.3: A Humorous Look at Interpreter Eth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2406600"/>
            <a:ext cx="90676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8545680" y="690408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4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4.4: RID Ethical Practices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335280" y="2406600"/>
            <a:ext cx="326556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d2d6a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798200"/>
            <a:ext cx="6183360" cy="503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What are your rights with interpreters? 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5320" indent="-3553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What should you do when you see an interpreter do something wrong?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553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8545680" y="6827760"/>
            <a:ext cx="1218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4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6:08:05Z</dcterms:created>
  <dc:creator>Selina</dc:creator>
  <dc:description/>
  <dc:language>en-US</dc:language>
  <cp:lastModifiedBy>Bailey Westerhoff</cp:lastModifiedBy>
  <dcterms:modified xsi:type="dcterms:W3CDTF">2013-09-05T21:37:16Z</dcterms:modified>
  <cp:revision>24</cp:revision>
  <dc:subject/>
  <dc:title>Deaf Self-Advocacy Training Module 4: Ethics of Working with Interpreters</dc:title>
</cp:coreProperties>
</file>