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C03F8-EDEA-4005-8C98-4B49CBE5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7F5DF-AEF7-4FBA-A3C2-6C81C86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CE61B-FB52-47D3-A799-1D813B3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59C10-C3D2-4E3B-B7E1-F7C5ED72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D083-9094-425F-8FA1-857886A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3401F-4100-4BE9-ADFC-3DD555D5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2028B-10FA-4F22-BE9A-91EB46D1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6B84-105F-4988-B0B0-DEA7B53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E1C8A-B56C-406A-AD2B-318A5732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9F3E5-9FCC-43BB-A863-8A630DF3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3DD72-D2AE-4FCC-8745-4DA5363F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4105C-57ED-4D8E-BFE3-26EFF6EE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E29AF-555A-4500-8CC7-3ED0CAC2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7B362-782D-45EE-BCAC-9FF11870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B4DA5-1F93-47AE-A57D-2A2190CB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DC4D8-A4C1-450A-81CD-EC0B6E33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1F7825-83BE-42F6-BF41-92E4A26B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6BBC1-E68A-4985-B203-61BDDDAA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D7BB5-3DBB-475E-9636-380B3E85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14BC3-9E1B-4BB8-9800-A0BF4D3C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D7D29-1013-4276-8065-B1EB96C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D506F-3431-4966-A10F-4E67228C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2C35B-DAC7-44AE-9022-17ED322F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C0DEF-A338-4D5D-89B4-573DE621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28FCB-2289-4BCF-BC78-09205764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298CC-B0B9-4C46-8F1C-9710730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A891A-13D4-4E7C-A4A8-1847905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E9888-D346-469A-8756-90DD3FCC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9BD06-2314-466E-940E-C79C07BC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7B4CA-2197-46F5-8273-5CCEFB53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644B0-7D83-458F-8A73-23DA941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DB34E-0C34-49CE-B2D8-C99B8ED1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F98C82-0B79-496D-8C6F-0EE857E4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76631-BD9C-41F6-BBAF-ECA4F00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4A5A1-1B2C-4CCC-931A-70529E72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FEC94-C406-410D-B5FF-5EE3DB47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AB9A6-E053-4892-BC12-297A807E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C13F0-080E-404A-9147-C965BB3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2B0EA-80EC-4233-83D9-68177FC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034D6-BF10-4CB1-A32D-1173E694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674B3-A783-482E-A767-5F1BEBB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B81E8-181B-4C4C-8069-4BF29A2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4B531-E4C5-4790-B3D1-7576D60F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6A008-1A9B-4A47-96C6-7774496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EE4C1-8BCA-4AFA-959E-3A43C8BD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0D61D-CD15-42E1-AEB9-09EE6D8E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0B949-7649-436D-91F5-6363F6E4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AAB76-9B1E-44C9-B092-13741828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468240" y="7130880"/>
            <a:ext cx="3194280" cy="2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4B5D1-C476-47B7-BB1D-25415C81FD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6"/>
          </p:nvPr>
        </p:nvSpPr>
        <p:spPr>
          <a:xfrm>
            <a:off x="529920" y="69627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420C6-7901-450C-994D-BBDCB44FEF05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7"/>
          </p:nvPr>
        </p:nvSpPr>
        <p:spPr>
          <a:xfrm>
            <a:off x="3467160" y="713232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8"/>
          </p:nvPr>
        </p:nvSpPr>
        <p:spPr>
          <a:xfrm>
            <a:off x="7254720" y="69627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9D5BD-6521-452D-92E2-0BAF60F49ED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Master Slide-1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3400" y="91296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1360" y="240660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Myriad Pro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1a296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Myriad Pro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Myriad Pr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3B4F8-9E43-488E-992F-8F130726F5D2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0"/>
          </p:nvPr>
        </p:nvSpPr>
        <p:spPr>
          <a:xfrm>
            <a:off x="3440160" y="7056000"/>
            <a:ext cx="31939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1a2960"/>
                </a:solidFill>
                <a:latin typeface="Myriad Pro"/>
                <a:ea typeface="MS Gothic"/>
              </a:rPr>
              <a:t>© NCIEC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A5162-C869-41B3-A22B-B5927C0528A0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9378B-A373-44C8-AD8C-CB4D40BF116D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3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4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91610-A7D9-48CF-8092-23E9681AE2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Deaf Self-Advocacy Training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Module 2: Self-Esteem and 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Self-Determi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676160" y="67057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yriad Pro"/>
                <a:ea typeface="MS Gothic"/>
              </a:rPr>
              <a:t>This project is funded by  The National Consortium of Interpreter Education Centers with funding from the U.S. Department of Education, Rehabilitation Services Administration, #H160C030001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8" name="Picture 3" descr="NCIEC.png"/>
          <p:cNvPicPr/>
          <p:nvPr/>
        </p:nvPicPr>
        <p:blipFill>
          <a:blip r:embed="rId1"/>
          <a:stretch/>
        </p:blipFill>
        <p:spPr>
          <a:xfrm>
            <a:off x="2830680" y="4800600"/>
            <a:ext cx="44082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4320" y="198360"/>
            <a:ext cx="907236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The Self With Esteem and Determi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1360" y="1722600"/>
            <a:ext cx="9069480" cy="5108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How can high self-esteem help self-determination?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Is it good to always work alone in advocacy?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When is it good to work with others?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How do you ask for what you need? 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95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800" spc="-1" strike="noStrike">
                <a:solidFill>
                  <a:srgbClr val="ffff00"/>
                </a:solidFill>
                <a:latin typeface="Myriad Pro"/>
                <a:ea typeface="MS Gothic"/>
              </a:rPr>
              <a:t>When do you ask for support? 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Goal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Understanding the relationship between self-esteem, self-determination, and self-advocacy.  Also, how having a higher self-esteem will lead to better self-advocacy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2.1: Bad Da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at Work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61760" y="2406600"/>
            <a:ext cx="8839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8545680" y="682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2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198360"/>
            <a:ext cx="9072360" cy="103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Self-Esteem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1189080"/>
            <a:ext cx="9074160" cy="556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What is self-esteem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Confidence in yourself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Belief in your abilities to do things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How can self-esteem help you in advocacy?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How can low self-esteem influence you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How can high self-esteem influence you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198360"/>
            <a:ext cx="9072360" cy="1067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Building Self-Esteem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440" y="1417320"/>
            <a:ext cx="8839080" cy="566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Build self-esteem through: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Positive self-talk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Saying, “I can do it!” or “Good for me! I did it well!”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Criticizing yourself is not positive self-talk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Visualization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Imagining positive things</a:t>
            </a:r>
            <a:r>
              <a:rPr b="0" i="1" lang="en-US" sz="3500" spc="-1" strike="noStrike">
                <a:solidFill>
                  <a:srgbClr val="ffffff"/>
                </a:solidFill>
                <a:latin typeface="Myriad Pro"/>
                <a:ea typeface="MS Gothic"/>
              </a:rPr>
              <a:t>.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96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Boosting Self-Esteem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25560" y="1722240"/>
            <a:ext cx="8523360" cy="513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Activities: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Self-esteem booster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Positive affirmation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Collage of goals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Self-Determination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44320" y="1874880"/>
            <a:ext cx="9156600" cy="444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at is self-determination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The ability to decide for yourself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Skills, beliefs, and knowledge to express what you need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25480" y="198360"/>
            <a:ext cx="744516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Steps to Self-Determi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2440" indent="-5144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Realize what your personal preferences ar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Set your goal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Use your skills to achieve your goal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Evaluate your progress and learn from this experienc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Video 2.2: Making a Reques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2103480"/>
            <a:ext cx="90676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  <a:ea typeface="MS Gothic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8545680" y="68277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2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1:49:58Z</dcterms:created>
  <dc:creator>Selina</dc:creator>
  <dc:description/>
  <dc:language>en-US</dc:language>
  <cp:lastModifiedBy>Bailey Westerhoff</cp:lastModifiedBy>
  <dcterms:modified xsi:type="dcterms:W3CDTF">2013-09-05T21:35:23Z</dcterms:modified>
  <cp:revision>29</cp:revision>
  <dc:subject/>
  <dc:title>Taaa Daaaa`</dc:title>
</cp:coreProperties>
</file>