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Deaf Self-Advocacy Training</a:t>
            </a:r>
            <a:br>
              <a:rPr sz="4000"/>
            </a:br>
            <a:r>
              <a:rPr b="0" i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Module 6: Preparing for </a:t>
            </a:r>
            <a:br>
              <a:rPr sz="4000"/>
            </a:br>
            <a:r>
              <a:rPr b="0" i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Self-Advocacy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1" name="Picture 3" descr="NCIEC.png"/>
          <p:cNvPicPr/>
          <p:nvPr/>
        </p:nvPicPr>
        <p:blipFill>
          <a:blip r:embed="rId1"/>
          <a:stretch/>
        </p:blipFill>
        <p:spPr>
          <a:xfrm>
            <a:off x="2754360" y="4724280"/>
            <a:ext cx="45846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How to Plan for an Interpreter Reques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1360" y="2590920"/>
            <a:ext cx="9069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ave control over your behavior and attitude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Be prepared when you request for an interpreter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ave an action plan ready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Know your right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ork with local agencies and resource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6.3: Calling with a Positive Attitude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3520" y="2406600"/>
            <a:ext cx="9067680" cy="44244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6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Job Interview Letter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3551040"/>
            <a:ext cx="52578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ow would you respond if this company has less than 15 employees?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if it had more than 15 employees?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are your options?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92" name="Picture 9" descr="Screen shot 2012-04-23 at 10"/>
          <p:cNvPicPr/>
          <p:nvPr/>
        </p:nvPicPr>
        <p:blipFill>
          <a:blip r:embed="rId1"/>
          <a:stretch/>
        </p:blipFill>
        <p:spPr>
          <a:xfrm>
            <a:off x="380880" y="2209680"/>
            <a:ext cx="3751560" cy="4648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applying your learn"/>
          <p:cNvPicPr/>
          <p:nvPr/>
        </p:nvPicPr>
        <p:blipFill>
          <a:blip r:embed="rId2"/>
          <a:stretch/>
        </p:blipFill>
        <p:spPr>
          <a:xfrm>
            <a:off x="5451480" y="2001960"/>
            <a:ext cx="33116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Goal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Know how to approach self-advocacy situation with the appropriate attitude, goals, and resource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Attitude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1720" y="2590920"/>
            <a:ext cx="8917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is </a:t>
            </a:r>
            <a:r>
              <a:rPr b="0" i="1" lang="en-US" sz="3200" spc="-1" strike="noStrike">
                <a:solidFill>
                  <a:srgbClr val="002060"/>
                </a:solidFill>
                <a:latin typeface="Myriad Pro"/>
              </a:rPr>
              <a:t>attitude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A tendency to respond positively or negatively towards a certain idea, object, person, or situation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How you feel or behave about something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y is attitude important?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4"/>
          <p:cNvSpPr/>
          <p:nvPr/>
        </p:nvSpPr>
        <p:spPr>
          <a:xfrm>
            <a:off x="846936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6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63840" y="1036800"/>
            <a:ext cx="655344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Myriad Pro"/>
              </a:rPr>
              <a:t>Video 6.1: A Bad Call while Making an Appointment</a:t>
            </a:r>
            <a:endParaRPr b="1" lang="en-US" sz="38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08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at kind of attitude did this person show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Have you seen people talking like this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Can you share examples of a positive attitude?   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16480" y="2406600"/>
            <a:ext cx="6084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63840" y="1189080"/>
            <a:ext cx="64548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Requesting Interpreter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44680" y="2361960"/>
            <a:ext cx="906912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Which response is better?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	</a:t>
            </a: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“</a:t>
            </a: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I’d like to request a sign language interpreter for the interview. Here’s how you can book for one; the agency to contact is Acme Interpreting Services. Their phone number is (123)456-7890.”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Or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“</a:t>
            </a: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I demand an interpreter for the interview. The law requires it. If you don’t, I’ll sue you for discrimination!”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9000" y="912960"/>
            <a:ext cx="6161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Having a Good Attitude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1360" y="2406600"/>
            <a:ext cx="7023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Confidence, positive, and assertive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Does not mean ignoring discrimination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Discrimination means to make decisions against you or in favor of you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785880" indent="-26136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Not always because you are deaf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785880" indent="-26136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May be due to other reasons such as gender, skin color, religion, age, or beliefs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4" name="Picture 4" descr="module 6 slide 6.jpg"/>
          <p:cNvPicPr/>
          <p:nvPr/>
        </p:nvPicPr>
        <p:blipFill>
          <a:blip r:embed="rId1"/>
          <a:stretch/>
        </p:blipFill>
        <p:spPr>
          <a:xfrm>
            <a:off x="7554960" y="2865600"/>
            <a:ext cx="217476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6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6.2: A Positive Attitude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720" y="2406600"/>
            <a:ext cx="37353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at were the challenges faced by the Deaf person in this story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How did he show a positive attitude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How was this video different from video 6.1?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14800" y="2406600"/>
            <a:ext cx="54864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reative Communication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5790960"/>
            <a:ext cx="90691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at was your most creative communication tool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How does this flexibility help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1" name="Picture 6" descr="PPT-TDG-EtchSketch-R"/>
          <p:cNvPicPr/>
          <p:nvPr/>
        </p:nvPicPr>
        <p:blipFill>
          <a:blip r:embed="rId1"/>
          <a:stretch/>
        </p:blipFill>
        <p:spPr>
          <a:xfrm>
            <a:off x="380880" y="2209680"/>
            <a:ext cx="93726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30320" y="1036800"/>
            <a:ext cx="6911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Dealing with Discrimination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1360" y="3703320"/>
            <a:ext cx="906948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Very normal to become angry or disappointed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10040" indent="-3074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Assume good intention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10040" indent="-3074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nk of potential good solution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10040" indent="-3074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Role-play different situation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10040" indent="-3074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nk about different solution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4" name="Picture 6" descr="applying your learn"/>
          <p:cNvPicPr/>
          <p:nvPr/>
        </p:nvPicPr>
        <p:blipFill>
          <a:blip r:embed="rId1"/>
          <a:stretch/>
        </p:blipFill>
        <p:spPr>
          <a:xfrm>
            <a:off x="609480" y="2075040"/>
            <a:ext cx="369252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8:18:17Z</dcterms:created>
  <dc:creator>Margie English</dc:creator>
  <dc:description>EnglishWit Solutions is a technical marketing and writing service.  For more information, please visit www.englishwit.com. </dc:description>
  <cp:keywords/>
  <dc:language>en-US</dc:language>
  <cp:lastModifiedBy>EnglishWit Solutions LLC</cp:lastModifiedBy>
  <dcterms:modified xsi:type="dcterms:W3CDTF">2012-06-21T21:39:20Z</dcterms:modified>
  <cp:revision>27</cp:revision>
  <dc:subject/>
  <dc:title>DSAT Module 6</dc:title>
</cp:coreProperties>
</file>