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applause.wav" ContentType="audio/x-wav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yriad Pro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8CDA-66AC-4258-AE2F-2DC85F773DD7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D5CE-031F-4D83-8A32-C72481B7C03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397836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97836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653280" y="397836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43480" y="182880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01520" y="182880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397836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643480" y="397836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601520" y="397836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428640" y="609120"/>
            <a:ext cx="563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397836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653280" y="397836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97836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397836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7836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653280" y="397836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43480" y="182880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01520" y="182880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397836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643480" y="397836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4601520" y="397836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428640" y="609120"/>
            <a:ext cx="563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440" y="397836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653280" y="397836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440" y="397836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440" y="397836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440" y="397836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3653280" y="397836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643480" y="182880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01520" y="182880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440" y="397836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2643480" y="397836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4601520" y="397836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428640" y="609120"/>
            <a:ext cx="563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440" y="397836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653280" y="397836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440" y="397836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85440" y="397836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440" y="397836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653280" y="397836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643480" y="182880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01520" y="182880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85440" y="397836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2643480" y="397836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4601520" y="397836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428640" y="609120"/>
            <a:ext cx="563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440" y="397836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653280" y="397836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440" y="397836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85440" y="397836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440" y="397836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3653280" y="397836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8640" y="609120"/>
            <a:ext cx="563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643480" y="182880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01520" y="182880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85440" y="397836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2643480" y="397836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4601520" y="397836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397836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653280" y="397836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53280" y="182880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397836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image" Target="../media/image3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" name="Subtitle 2"/>
          <p:cNvSpPr/>
          <p:nvPr/>
        </p:nvSpPr>
        <p:spPr>
          <a:xfrm>
            <a:off x="838080" y="632448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6854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ubtitle 2"/>
          <p:cNvSpPr/>
          <p:nvPr/>
        </p:nvSpPr>
        <p:spPr>
          <a:xfrm>
            <a:off x="838080" y="632448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8" descr="PPT background templa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ubtitle 2"/>
          <p:cNvSpPr/>
          <p:nvPr/>
        </p:nvSpPr>
        <p:spPr>
          <a:xfrm>
            <a:off x="838080" y="640080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ubtitle 2"/>
          <p:cNvSpPr/>
          <p:nvPr/>
        </p:nvSpPr>
        <p:spPr>
          <a:xfrm>
            <a:off x="838080" y="632448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7" descr="PPT background templa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Subtitle 2"/>
          <p:cNvSpPr/>
          <p:nvPr/>
        </p:nvSpPr>
        <p:spPr>
          <a:xfrm>
            <a:off x="990720" y="640080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2" descr="PPT background templa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ubRRectCallout"/>
          <p:cNvSpPr/>
          <p:nvPr/>
        </p:nvSpPr>
        <p:spPr>
          <a:xfrm>
            <a:off x="685800" y="1752480"/>
            <a:ext cx="6248520" cy="2895840"/>
          </a:xfrm>
          <a:custGeom>
            <a:avLst/>
            <a:gdLst>
              <a:gd name="textAreaLeft" fmla="*/ 41760 w 6248520"/>
              <a:gd name="textAreaRight" fmla="*/ 6193440 w 6248520"/>
              <a:gd name="textAreaTop" fmla="*/ 19440 h 2895840"/>
              <a:gd name="textAreaBottom" fmla="*/ 2293560 h 28958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ubTriangle">
            <a:hlinkClick r:id="rId3" action="ppaction://hlinksldjump"/>
          </p:cNvPr>
          <p:cNvSpPr/>
          <p:nvPr/>
        </p:nvSpPr>
        <p:spPr>
          <a:xfrm>
            <a:off x="7391520" y="5715000"/>
            <a:ext cx="761760" cy="914400"/>
          </a:xfrm>
          <a:custGeom>
            <a:avLst/>
            <a:gdLst>
              <a:gd name="textAreaLeft" fmla="*/ 285480 w 761760"/>
              <a:gd name="textAreaRight" fmla="*/ 571320 w 761760"/>
              <a:gd name="textAreaTop" fmla="*/ 228600 h 914400"/>
              <a:gd name="textAreaBottom" fmla="*/ 57168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1080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WordArt 25"/>
          <p:cNvSpPr txBox="1"/>
          <p:nvPr/>
        </p:nvSpPr>
        <p:spPr>
          <a:xfrm>
            <a:off x="7391520" y="6172200"/>
            <a:ext cx="1500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gradFill rotWithShape="0">
                  <a:gsLst>
                    <a:gs pos="0">
                      <a:srgbClr val="292929"/>
                    </a:gs>
                    <a:gs pos="100000">
                      <a:srgbClr val="29292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ack to Game Grid</a:t>
            </a:r>
            <a:endParaRPr b="0" lang="en-US" sz="800" spc="1" strike="noStrike">
              <a:ln w="0">
                <a:noFill/>
              </a:ln>
              <a:gradFill rotWithShape="0">
                <a:gsLst>
                  <a:gs pos="0">
                    <a:srgbClr val="292929"/>
                  </a:gs>
                  <a:gs pos="100000">
                    <a:srgbClr val="29292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3" name="Picture 30" descr="PE01832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3352680"/>
            <a:ext cx="2819520" cy="2575080"/>
          </a:xfrm>
          <a:prstGeom prst="rect">
            <a:avLst/>
          </a:prstGeom>
          <a:ln w="0">
            <a:noFill/>
          </a:ln>
        </p:spPr>
      </p:pic>
      <p:sp>
        <p:nvSpPr>
          <p:cNvPr id="164" name="Subtitle 2"/>
          <p:cNvSpPr/>
          <p:nvPr/>
        </p:nvSpPr>
        <p:spPr>
          <a:xfrm>
            <a:off x="152280" y="6248520"/>
            <a:ext cx="7010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4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wm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Pro"/>
              </a:rPr>
              <a:t>It</a:t>
            </a:r>
            <a:r>
              <a:rPr b="1" lang="ja-JP" sz="4400" spc="-1" strike="noStrike">
                <a:solidFill>
                  <a:srgbClr val="000000"/>
                </a:solidFill>
                <a:latin typeface="Myriad Pro"/>
              </a:rPr>
              <a:t>’</a:t>
            </a:r>
            <a:r>
              <a:rPr b="1" lang="en-US" sz="4400" spc="-1" strike="noStrike">
                <a:solidFill>
                  <a:srgbClr val="000000"/>
                </a:solidFill>
                <a:latin typeface="Myriad Pro"/>
              </a:rPr>
              <a:t>s DSAT Know Your Rights!</a:t>
            </a:r>
            <a:endParaRPr b="0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Pro"/>
              </a:rPr>
              <a:t>Welcome!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Points scores are doubled, so it is anyone</a:t>
            </a:r>
            <a:r>
              <a:rPr b="0" lang="ja-JP" sz="2000" spc="-1" strike="noStrike">
                <a:solidFill>
                  <a:srgbClr val="000000"/>
                </a:solidFill>
                <a:latin typeface="Myriad Pro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s game!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You can choose to answer a question on your own for all the points or consult your team for half the points. 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There are two Daily Doubles.  You may wager no less than twice the amount shown.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You may not steal or answer the opposing team</a:t>
            </a:r>
            <a:r>
              <a:rPr b="0" lang="ja-JP" sz="2000" spc="-1" strike="noStrike">
                <a:solidFill>
                  <a:srgbClr val="000000"/>
                </a:solidFill>
                <a:latin typeface="Myriad Pro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s question for a point of your own.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For Final Jeopardy, make a wager before viewing the question.  Be frugal or blow it all!  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212" name="Picture 5" descr="PE01832_"/>
          <p:cNvPicPr/>
          <p:nvPr/>
        </p:nvPicPr>
        <p:blipFill>
          <a:blip r:embed="rId6"/>
          <a:stretch/>
        </p:blipFill>
        <p:spPr>
          <a:xfrm>
            <a:off x="5715000" y="2538360"/>
            <a:ext cx="34290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5790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What is the DARS Division for Rehabilitation Services?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A state agency that can assist with job placement after you complete your course work at ACC.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437920" y="7617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Myriad Pro"/>
              </a:rPr>
              <a:t>400 – Resources Around You</a:t>
            </a: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Myriad Pro"/>
              </a:rPr>
              <a:t>600 – Definitions</a:t>
            </a: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What is </a:t>
            </a:r>
            <a:r>
              <a:rPr b="0" lang="ja-JP" sz="2800" spc="-1" strike="noStrike">
                <a:solidFill>
                  <a:srgbClr val="000000"/>
                </a:solidFill>
                <a:latin typeface="Myriad Pro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Attitude?</a:t>
            </a:r>
            <a:r>
              <a:rPr b="0" lang="ja-JP" sz="2800" spc="-1" strike="noStrike">
                <a:solidFill>
                  <a:srgbClr val="000000"/>
                </a:solidFill>
                <a:latin typeface="Myriad Pro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12120" indent="-312120">
              <a:lnSpc>
                <a:spcPct val="90000"/>
              </a:lnSpc>
              <a:spcBef>
                <a:spcPts val="774"/>
              </a:spcBef>
              <a:buSzPct val="10276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Myriad Pro"/>
              </a:rPr>
              <a:t>Responding positively or negatively towards a certain idea, person, or situation; or how you feel about something.</a:t>
            </a:r>
            <a:endParaRPr b="0" lang="en-US" sz="31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Myriad Pro"/>
              </a:rPr>
              <a:t>600 - Interpreters</a:t>
            </a: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What are </a:t>
            </a:r>
            <a:r>
              <a:rPr b="0" lang="ja-JP" sz="2800" spc="-1" strike="noStrike">
                <a:solidFill>
                  <a:srgbClr val="000000"/>
                </a:solidFill>
                <a:latin typeface="Myriad Pro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Ethics?</a:t>
            </a:r>
            <a:r>
              <a:rPr b="0" lang="ja-JP" sz="2800" spc="-1" strike="noStrike">
                <a:solidFill>
                  <a:srgbClr val="000000"/>
                </a:solidFill>
                <a:latin typeface="Myriad Pro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The right or wrong way to act in a certain situation.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Myriad Pro"/>
              </a:rPr>
              <a:t>600 – Self Advocacy</a:t>
            </a: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5867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Why is it important to have high self-esteem? 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Low self-esteem can cause you to find yourself in situations where you are unhappy. </a:t>
            </a:r>
            <a:r>
              <a:rPr b="1" lang="en-US" sz="2800" spc="-1" strike="noStrike">
                <a:solidFill>
                  <a:srgbClr val="000000"/>
                </a:solidFill>
                <a:latin typeface="Myriad Pro"/>
              </a:rPr>
              <a:t>High self-esteem </a:t>
            </a: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can give you confidence which can will help you to self-advocate. 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5943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What is </a:t>
            </a:r>
            <a:r>
              <a:rPr b="0" lang="ja-JP" sz="2800" spc="-1" strike="noStrike">
                <a:solidFill>
                  <a:srgbClr val="000000"/>
                </a:solidFill>
                <a:latin typeface="Myriad Pro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Travis Country Services for the Deaf and Hard of Hearing?</a:t>
            </a:r>
            <a:r>
              <a:rPr b="0" lang="ja-JP" sz="2800" spc="-1" strike="noStrike">
                <a:solidFill>
                  <a:srgbClr val="000000"/>
                </a:solidFill>
                <a:latin typeface="Myriad Pro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A local organization that has staff who offer interpreting and specialized case work services to both deaf and hard of hearing persons.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2437920" y="7617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Myriad Pro"/>
              </a:rPr>
              <a:t>600 – Resources Around You</a:t>
            </a: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Myriad Pro"/>
              </a:rPr>
              <a:t>800 – Definitions</a:t>
            </a: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What is </a:t>
            </a:r>
            <a:r>
              <a:rPr b="0" lang="ja-JP" sz="3200" spc="-1" strike="noStrike">
                <a:solidFill>
                  <a:srgbClr val="000000"/>
                </a:solidFill>
                <a:latin typeface="Myriad Pro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Communication Access?</a:t>
            </a:r>
            <a:r>
              <a:rPr b="0" lang="ja-JP" sz="3200" spc="-1" strike="noStrike">
                <a:solidFill>
                  <a:srgbClr val="000000"/>
                </a:solidFill>
                <a:latin typeface="Myriad Pro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Having the chance to fully understand everything.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Myriad Pro"/>
              </a:rPr>
              <a:t>800 - Interpreters</a:t>
            </a: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yriad Pro"/>
              </a:rPr>
              <a:t>(As defined by the ADA) </a:t>
            </a: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What is the definition of </a:t>
            </a:r>
            <a:r>
              <a:rPr b="0" lang="ja-JP" sz="2800" spc="-1" strike="noStrike">
                <a:solidFill>
                  <a:srgbClr val="000000"/>
                </a:solidFill>
                <a:latin typeface="Myriad Pro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Qualified Interpreter?</a:t>
            </a:r>
            <a:r>
              <a:rPr b="0" lang="ja-JP" sz="2800" spc="-1" strike="noStrike">
                <a:solidFill>
                  <a:srgbClr val="000000"/>
                </a:solidFill>
                <a:latin typeface="Myriad Pro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Someone who can interpret effectively, accurately, and impartially, both receptively and expressively, using any necessary specialized vocabulary.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Myriad Pro"/>
              </a:rPr>
              <a:t>800 – Self Advocacy</a:t>
            </a: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What is </a:t>
            </a:r>
            <a:r>
              <a:rPr b="0" lang="ja-JP" sz="2800" spc="-1" strike="noStrike">
                <a:solidFill>
                  <a:srgbClr val="000000"/>
                </a:solidFill>
                <a:latin typeface="Myriad Pro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Self-determination?</a:t>
            </a:r>
            <a:r>
              <a:rPr b="0" lang="ja-JP" sz="2800" spc="-1" strike="noStrike">
                <a:solidFill>
                  <a:srgbClr val="000000"/>
                </a:solidFill>
                <a:latin typeface="Myriad Pro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The ability to make decisions for yourself and about things that affect you.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The name of at least 5 resources around you.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Myriad Pro"/>
              </a:rPr>
              <a:t>Deafness Resource Specialist, Hearing Loss Resource Specialist, DARS-DHHS, DARS DRS-VR, ARCIL, TCSDHH, TAD, NAD, AADB, JAN, DOJ, EEOC, HLAA, and more…</a:t>
            </a: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49" name="WordArt 6"/>
          <p:cNvSpPr txBox="1"/>
          <p:nvPr/>
        </p:nvSpPr>
        <p:spPr>
          <a:xfrm>
            <a:off x="5952960" y="1905120"/>
            <a:ext cx="31147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aily Double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2437920" y="7617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Myriad Pro"/>
              </a:rPr>
              <a:t>800 – Resources Around You</a:t>
            </a: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Myriad Pro"/>
              </a:rPr>
              <a:t>Make Your Wager!</a:t>
            </a: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Leading team.  Please select a question.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53" name="WordArt 4"/>
          <p:cNvSpPr txBox="1"/>
          <p:nvPr/>
        </p:nvSpPr>
        <p:spPr>
          <a:xfrm>
            <a:off x="5952960" y="1905120"/>
            <a:ext cx="31147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inal Jeopardy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838080" y="4191120"/>
            <a:ext cx="51055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stion 1             Question 2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stion 3             Question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stion 5             Question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stion 7             Question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79760" y="685440"/>
            <a:ext cx="664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yriad Pro"/>
              </a:rPr>
              <a:t>DSAT Know Your Right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yriad Pro"/>
              </a:rPr>
              <a:t>Double Jeopardy!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80880" y="1828800"/>
          <a:ext cx="8229600" cy="4237200"/>
        </p:xfrm>
        <a:graphic>
          <a:graphicData uri="http://schemas.openxmlformats.org/drawingml/2006/table">
            <a:tbl>
              <a:tblPr/>
              <a:tblGrid>
                <a:gridCol w="2057400"/>
                <a:gridCol w="2133720"/>
                <a:gridCol w="1981080"/>
                <a:gridCol w="2057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Myriad Pro"/>
                        </a:rPr>
                        <a:t>Defini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Myriad Pro"/>
                        </a:rPr>
                        <a:t>Interpre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Myriad Pro"/>
                        </a:rPr>
                        <a:t>Self Advoca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Myriad Pro"/>
                        </a:rPr>
                        <a:t>Resources Around 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Myriad Pro"/>
                          <a:hlinkClick r:id="rId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Myriad Pro"/>
                          <a:hlinkClick r:id="rId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Myriad Pro"/>
                          <a:hlinkClick r:id="rId3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Myriad Pro"/>
                          <a:hlinkClick r:id="rId4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Myriad Pro"/>
                          <a:hlinkClick r:id="rId5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Myriad Pro"/>
                          <a:hlinkClick r:id="rId6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Myriad Pro"/>
                          <a:hlinkClick r:id="rId7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Myriad Pro"/>
                          <a:hlinkClick r:id="rId8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Myriad Pro"/>
                          <a:hlinkClick r:id="rId9" action="ppaction://hlinksldjump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Myriad Pro"/>
                          <a:hlinkClick r:id="rId10" action="ppaction://hlinksldjump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Myriad Pro"/>
                          <a:hlinkClick r:id="rId11" action="ppaction://hlinksldjump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Myriad Pro"/>
                          <a:hlinkClick r:id="rId12" action="ppaction://hlinksldjump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Myriad Pro"/>
                          <a:hlinkClick r:id="rId13" action="ppaction://hlinksldjump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Myriad Pro"/>
                          <a:hlinkClick r:id="rId14" action="ppaction://hlinksldjump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Myriad Pro"/>
                          <a:hlinkClick r:id="rId15" action="ppaction://hlinksldjump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Myriad Pro"/>
                          <a:hlinkClick r:id="rId16" action="ppaction://hlinksldjump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215" name="PubTriangle">
            <a:hlinkClick r:id="rId17" action="ppaction://hlinksldjump"/>
          </p:cNvPr>
          <p:cNvSpPr/>
          <p:nvPr/>
        </p:nvSpPr>
        <p:spPr>
          <a:xfrm>
            <a:off x="7391520" y="5943600"/>
            <a:ext cx="761760" cy="914400"/>
          </a:xfrm>
          <a:custGeom>
            <a:avLst/>
            <a:gdLst>
              <a:gd name="textAreaLeft" fmla="*/ 285480 w 761760"/>
              <a:gd name="textAreaRight" fmla="*/ 571320 w 761760"/>
              <a:gd name="textAreaTop" fmla="*/ 228600 h 914400"/>
              <a:gd name="textAreaBottom" fmla="*/ 57168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1080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WordArt 54"/>
          <p:cNvSpPr txBox="1"/>
          <p:nvPr/>
        </p:nvSpPr>
        <p:spPr>
          <a:xfrm>
            <a:off x="7391520" y="6400800"/>
            <a:ext cx="1500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gradFill rotWithShape="0">
                  <a:gsLst>
                    <a:gs pos="0">
                      <a:srgbClr val="f8f8f8"/>
                    </a:gs>
                    <a:gs pos="100000">
                      <a:srgbClr val="f8f8f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o to Final Jeopardy!</a:t>
            </a:r>
            <a:endParaRPr b="0" lang="en-US" sz="800" spc="1" strike="noStrike">
              <a:ln w="0">
                <a:noFill/>
              </a:ln>
              <a:gradFill rotWithShape="0">
                <a:gsLst>
                  <a:gs pos="0">
                    <a:srgbClr val="f8f8f8"/>
                  </a:gs>
                  <a:gs pos="100000">
                    <a:srgbClr val="f8f8f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yriad Pro"/>
              </a:rPr>
              <a:t>Question 1 – Final Jeopardy</a:t>
            </a:r>
            <a:endParaRPr b="0" lang="en-US" sz="3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What is the </a:t>
            </a:r>
            <a:r>
              <a:rPr b="0" lang="ja-JP" sz="2800" spc="-1" strike="noStrike">
                <a:solidFill>
                  <a:srgbClr val="000000"/>
                </a:solidFill>
                <a:latin typeface="Myriad Pro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Code of Professional Conduct (CPC)?</a:t>
            </a:r>
            <a:r>
              <a:rPr b="0" lang="ja-JP" sz="2800" spc="-1" strike="noStrike">
                <a:solidFill>
                  <a:srgbClr val="000000"/>
                </a:solidFill>
                <a:latin typeface="Myriad Pro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22200" indent="-3222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A guideline listing standards of behavior for certified interpreters.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57" name="WordArt 4"/>
          <p:cNvSpPr txBox="1"/>
          <p:nvPr/>
        </p:nvSpPr>
        <p:spPr>
          <a:xfrm>
            <a:off x="5952960" y="1905120"/>
            <a:ext cx="31147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od Luck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yriad Pro"/>
              </a:rPr>
              <a:t>Question 2 – Final Jeopardy</a:t>
            </a:r>
            <a:endParaRPr b="0" lang="en-US" sz="3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What is </a:t>
            </a:r>
            <a:r>
              <a:rPr b="0" lang="ja-JP" sz="2800" spc="-1" strike="noStrike">
                <a:solidFill>
                  <a:srgbClr val="000000"/>
                </a:solidFill>
                <a:latin typeface="Myriad Pro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Grievance?</a:t>
            </a:r>
            <a:r>
              <a:rPr b="0" lang="ja-JP" sz="2800" spc="-1" strike="noStrike">
                <a:solidFill>
                  <a:srgbClr val="000000"/>
                </a:solidFill>
                <a:latin typeface="Myriad Pro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yriad Pro"/>
              </a:rPr>
              <a:t>(In regards to RID): </a:t>
            </a: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A complaint filed when a person feels an interpreter has violated the CPC.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60" name="WordArt 4"/>
          <p:cNvSpPr txBox="1"/>
          <p:nvPr/>
        </p:nvSpPr>
        <p:spPr>
          <a:xfrm>
            <a:off x="5952960" y="1905120"/>
            <a:ext cx="31147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od Luck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yriad Pro"/>
              </a:rPr>
              <a:t>Question 3 – Final Jeopardy</a:t>
            </a:r>
            <a:endParaRPr b="0" lang="en-US" sz="3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What is </a:t>
            </a:r>
            <a:r>
              <a:rPr b="0" lang="ja-JP" sz="2800" spc="-1" strike="noStrike">
                <a:solidFill>
                  <a:srgbClr val="000000"/>
                </a:solidFill>
                <a:latin typeface="Myriad Pro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Discrimination?</a:t>
            </a:r>
            <a:r>
              <a:rPr b="0" lang="ja-JP" sz="2800" spc="-1" strike="noStrike">
                <a:solidFill>
                  <a:srgbClr val="000000"/>
                </a:solidFill>
                <a:latin typeface="Myriad Pro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08520" indent="-30852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Myriad Pro"/>
              </a:rPr>
              <a:t>To make decisions in favor or against a person or thing based on the group, class, or category to which the person or things belongs.</a:t>
            </a:r>
            <a:endParaRPr b="0" lang="en-US" sz="27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5952960" y="1905120"/>
            <a:ext cx="31147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od Luck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yriad Pro"/>
              </a:rPr>
              <a:t>Question 4 – Final Jeopardy</a:t>
            </a:r>
            <a:endParaRPr b="0" lang="en-US" sz="3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When making a request for an accommodation, ___________ is essential.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Diplomacy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5952960" y="2286000"/>
            <a:ext cx="31147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od Luck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yriad Pro"/>
              </a:rPr>
              <a:t>Question 5 – Final Jeopardy</a:t>
            </a:r>
            <a:endParaRPr b="0" lang="en-US" sz="3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594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List 3 examples when reasonable accommodations are required.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1)Making the work place accessible, 2)making the interview process accessible, and 3)ensuring communication access at all work place events, training, and more…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69" name="WordArt 4"/>
          <p:cNvSpPr txBox="1"/>
          <p:nvPr/>
        </p:nvSpPr>
        <p:spPr>
          <a:xfrm>
            <a:off x="5952960" y="1905120"/>
            <a:ext cx="31147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od Luck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yriad Pro"/>
              </a:rPr>
              <a:t>Question 6 – Final Jeopardy</a:t>
            </a:r>
            <a:endParaRPr b="0" lang="en-US" sz="3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791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Who should pay for interpreters?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Pro"/>
              </a:rPr>
              <a:t>For the most part, the business needing communication access.</a:t>
            </a:r>
            <a:endParaRPr b="0" lang="en-US" sz="3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2" name="WordArt 4"/>
          <p:cNvSpPr txBox="1"/>
          <p:nvPr/>
        </p:nvSpPr>
        <p:spPr>
          <a:xfrm>
            <a:off x="5952960" y="1905120"/>
            <a:ext cx="31147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od Luck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yriad Pro"/>
              </a:rPr>
              <a:t>Question 7 – Final Jeopardy</a:t>
            </a:r>
            <a:endParaRPr b="0" lang="en-US" sz="3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Communication access is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Pro"/>
              </a:rPr>
              <a:t>A. </a:t>
            </a: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everything in ASL.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Pro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 interpreter with me always.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Pro"/>
              </a:rPr>
              <a:t>C.</a:t>
            </a: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 having interpreters for every medical, legal, and work meeting.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Pro"/>
              </a:rPr>
              <a:t>D.</a:t>
            </a: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 when I understand information the same as hearing people</a:t>
            </a:r>
            <a:r>
              <a:rPr b="0" lang="en-US" sz="1600" spc="-1" strike="noStrike">
                <a:solidFill>
                  <a:srgbClr val="000000"/>
                </a:solidFill>
                <a:latin typeface="Myriad Pro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D. when I understand information the same as hearing people.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5" name="WordArt 4"/>
          <p:cNvSpPr txBox="1"/>
          <p:nvPr/>
        </p:nvSpPr>
        <p:spPr>
          <a:xfrm>
            <a:off x="5952960" y="1905120"/>
            <a:ext cx="31147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od Luck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yriad Pro"/>
              </a:rPr>
              <a:t>Question 8 – Final Jeopardy</a:t>
            </a:r>
            <a:endParaRPr b="0" lang="en-US" sz="3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Why is self-advocacy important?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Self-advocacy is important so that you get the services and information you need.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8" name="WordArt 4"/>
          <p:cNvSpPr txBox="1"/>
          <p:nvPr/>
        </p:nvSpPr>
        <p:spPr>
          <a:xfrm>
            <a:off x="5952960" y="1905120"/>
            <a:ext cx="31147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od Luck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Myriad Pro"/>
              </a:rPr>
              <a:t>200 – Definitions</a:t>
            </a: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5943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List 5 accommodations that can help people who are deaf or hard of hearing achieve  </a:t>
            </a:r>
            <a:r>
              <a:rPr b="0" lang="ja-JP" sz="3200" spc="-1" strike="noStrike">
                <a:solidFill>
                  <a:srgbClr val="000000"/>
                </a:solidFill>
                <a:latin typeface="Myriad Pro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communication access.</a:t>
            </a:r>
            <a:r>
              <a:rPr b="0" lang="ja-JP" sz="3200" spc="-1" strike="noStrike">
                <a:solidFill>
                  <a:srgbClr val="000000"/>
                </a:solidFill>
                <a:latin typeface="Myriad Pro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12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yriad Pro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yriad Pro"/>
              </a:rPr>
              <a:t>Captioning, pen and paper, handouts before an event, TTY, VP, Interpreter, job coach, flashing lights, visual smoke detectors, ASL classes at work… </a:t>
            </a:r>
            <a:endParaRPr b="0" lang="en-US" sz="26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Myriad Pro"/>
              </a:rPr>
              <a:t>200 – Interpreter</a:t>
            </a: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What is an </a:t>
            </a:r>
            <a:r>
              <a:rPr b="0" lang="ja-JP" sz="2800" spc="-1" strike="noStrike">
                <a:solidFill>
                  <a:srgbClr val="000000"/>
                </a:solidFill>
                <a:latin typeface="Myriad Pro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Interpreter?</a:t>
            </a:r>
            <a:r>
              <a:rPr b="0" lang="ja-JP" sz="2800" spc="-1" strike="noStrike">
                <a:solidFill>
                  <a:srgbClr val="000000"/>
                </a:solidFill>
                <a:latin typeface="Myriad Pro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yriad Pro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Someone who makes sure people speaking different languages can communicate with each oth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Myriad Pro"/>
              </a:rPr>
              <a:t>200 – Self Advocacy</a:t>
            </a: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What is </a:t>
            </a:r>
            <a:r>
              <a:rPr b="0" lang="ja-JP" sz="3200" spc="-1" strike="noStrike">
                <a:solidFill>
                  <a:srgbClr val="000000"/>
                </a:solidFill>
                <a:latin typeface="Myriad Pro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lf-advocacy?</a:t>
            </a:r>
            <a:r>
              <a:rPr b="0" lang="ja-JP" sz="3200" spc="-1" strike="noStrike">
                <a:solidFill>
                  <a:srgbClr val="000000"/>
                </a:solidFill>
                <a:latin typeface="Myriad Pro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peaking up for yourself.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38280" y="7617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Myriad Pro"/>
              </a:rPr>
              <a:t>200 – Resources Around You</a:t>
            </a: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Who is the your Vocational Rehabilitation Deafness Resource Specialist?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&lt;Insert name&gt;.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Myriad Pro"/>
              </a:rPr>
              <a:t>400 – Definitions</a:t>
            </a: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019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What is a </a:t>
            </a:r>
            <a:r>
              <a:rPr b="0" lang="ja-JP" sz="2800" spc="-1" strike="noStrike">
                <a:solidFill>
                  <a:srgbClr val="000000"/>
                </a:solidFill>
                <a:latin typeface="Myriad Pro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Reasonable Accommodation?</a:t>
            </a:r>
            <a:r>
              <a:rPr b="0" lang="ja-JP" sz="2800" spc="-1" strike="noStrike">
                <a:solidFill>
                  <a:srgbClr val="000000"/>
                </a:solidFill>
                <a:latin typeface="Myriad Pro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Myriad Pro"/>
              </a:rPr>
              <a:t>A modification or adjustment to a job or to the work environment that will enable a qualified employee to perform the essential job functions…</a:t>
            </a:r>
            <a:endParaRPr b="0" lang="en-US" sz="27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Myriad Pro"/>
              </a:rPr>
              <a:t>400 – Interpreter</a:t>
            </a: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What is </a:t>
            </a:r>
            <a:r>
              <a:rPr b="0" lang="ja-JP" sz="2800" spc="-1" strike="noStrike">
                <a:solidFill>
                  <a:srgbClr val="000000"/>
                </a:solidFill>
                <a:latin typeface="Myriad Pro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Certification?</a:t>
            </a:r>
            <a:r>
              <a:rPr b="0" lang="ja-JP" sz="2800" spc="-1" strike="noStrike">
                <a:solidFill>
                  <a:srgbClr val="000000"/>
                </a:solidFill>
                <a:latin typeface="Myriad Pro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(as applied to interpreters): Passing a tests to show specific skills.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Myriad Pro"/>
              </a:rPr>
              <a:t>400 – Self Advocacy</a:t>
            </a:r>
            <a:endParaRPr b="0" lang="en-US" sz="3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What is positive </a:t>
            </a:r>
            <a:r>
              <a:rPr b="0" lang="ja-JP" sz="2800" spc="-1" strike="noStrike">
                <a:solidFill>
                  <a:srgbClr val="000000"/>
                </a:solidFill>
                <a:latin typeface="Myriad Pro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Self-esteem?</a:t>
            </a:r>
            <a:r>
              <a:rPr b="0" lang="ja-JP" sz="2800" spc="-1" strike="noStrike">
                <a:solidFill>
                  <a:srgbClr val="000000"/>
                </a:solidFill>
                <a:latin typeface="Myriad Pro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Confidence in yourself and belief in your ability to do things.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1" name="WordArt 6"/>
          <p:cNvSpPr txBox="1"/>
          <p:nvPr/>
        </p:nvSpPr>
        <p:spPr>
          <a:xfrm>
            <a:off x="5952960" y="1905120"/>
            <a:ext cx="31147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aily Double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4:47:12Z</dcterms:created>
  <dc:creator>assess</dc:creator>
  <dc:description/>
  <cp:keywords/>
  <dc:language>en-US</dc:language>
  <cp:lastModifiedBy>Anonymous Anonymous</cp:lastModifiedBy>
  <cp:lastPrinted>2009-04-22T19:24:48Z</cp:lastPrinted>
  <dcterms:modified xsi:type="dcterms:W3CDTF">2012-06-20T13:57:51Z</dcterms:modified>
  <cp:revision>122</cp:revision>
  <dc:subject/>
  <dc:title>“Sort of” Jeopardy</dc:title>
</cp:coreProperties>
</file>