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Deaf Self-Advocacy Training: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Module 5: Interpreting Services Using Video Technology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1" name="Picture 3" descr="NCIEC.png"/>
          <p:cNvPicPr/>
          <p:nvPr/>
        </p:nvPicPr>
        <p:blipFill>
          <a:blip r:embed="rId1"/>
          <a:stretch/>
        </p:blipFill>
        <p:spPr>
          <a:xfrm>
            <a:off x="2514600" y="4764240"/>
            <a:ext cx="458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5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982960" y="1112400"/>
            <a:ext cx="6999120" cy="1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Myriad Pro"/>
              </a:rPr>
              <a:t>Video 5.5: Video Etiquette Tips 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Myriad Pro"/>
              </a:rPr>
              <a:t>by Pinky the VRS Ambassador</a:t>
            </a:r>
            <a:endParaRPr b="1" lang="en-US" sz="36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2878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What other tips can you think of?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Why are those tips important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7760" y="2406600"/>
            <a:ext cx="6553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ery Important Tip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1360" y="6095880"/>
            <a:ext cx="906948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Don’t forget to appreciate the interpreters you work with!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5" name="Picture 11" descr="PPT-TDG-ChampTerp-R"/>
          <p:cNvPicPr/>
          <p:nvPr/>
        </p:nvPicPr>
        <p:blipFill>
          <a:blip r:embed="rId1"/>
          <a:stretch/>
        </p:blipFill>
        <p:spPr>
          <a:xfrm>
            <a:off x="457200" y="2224080"/>
            <a:ext cx="92203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oal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Learn the requirements for access to video conferencing, with the communication services available with this technology and tips for proper video etiquette. 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63840" y="912960"/>
            <a:ext cx="637848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5.1: Interpreting Services Through Video 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2406600"/>
            <a:ext cx="4952880" cy="44244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5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39639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Discuss: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challenges are there in getting what you need to use video conferencing? 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is the difference between VRS and VRI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Broadband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igh Speed Internet is also called broadband.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ere are several different types of broadband: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Cable Internet through TV cable network.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Digital Subscriber Line (DSL) through phone line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FIOS through fiber optic network.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Satellite Internet service.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43400" y="76212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Hardware and Softwar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578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Myriad Pro"/>
              </a:rPr>
              <a:t>Hardware (equipment that has its own software)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23000" indent="-31716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Videophones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46360" indent="-28152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VP-200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lvl="1" marL="846360" indent="-28152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Ntouch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lvl="1" marL="846360" indent="-28152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OJO 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lvl="1" marL="846360" indent="-28152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Tandberg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23000" indent="-31716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ebcam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46360" indent="-28152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Built-in or external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41520" y="2406600"/>
            <a:ext cx="445932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Myriad Pro"/>
              </a:rPr>
              <a:t>Software (Applications that works with webcams)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Skype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Tango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Facetime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ooVoo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Go-to-meeting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P3/Z4/ntouch PC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05320" y="1295280"/>
            <a:ext cx="59436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omparing VRS and VRI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578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Myriad Pro"/>
              </a:rPr>
              <a:t>What are the similarities?</a:t>
            </a: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27320" indent="-32040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Both use videoconferencing technology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55000" indent="-28440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Could use the same type of equipment/software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lvl="1" marL="855000" indent="-28440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Myriad Pro"/>
              </a:rPr>
              <a:t>Broadband is required.</a:t>
            </a:r>
            <a:endParaRPr b="0" lang="en-US" sz="2600" spc="-1" strike="noStrike">
              <a:solidFill>
                <a:srgbClr val="002060"/>
              </a:solidFill>
              <a:latin typeface="Myriad Pro"/>
            </a:endParaRPr>
          </a:p>
          <a:p>
            <a:pPr marL="427320" indent="-32040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Could be the same interpreter and/or call center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1520" y="2406600"/>
            <a:ext cx="445932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Myriad Pro"/>
              </a:rPr>
              <a:t>What are the differences?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VRS is 24/7. 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VRI is not always 24/7. 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Purpose of service is different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More types of equipment used for audio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Physical location of Deaf and hearing persons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The organization who pays to provide the service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6" name="Picture 5" descr="in_class_discussion2"/>
          <p:cNvPicPr/>
          <p:nvPr/>
        </p:nvPicPr>
        <p:blipFill>
          <a:blip r:embed="rId1"/>
          <a:stretch/>
        </p:blipFill>
        <p:spPr>
          <a:xfrm>
            <a:off x="7010280" y="336600"/>
            <a:ext cx="22100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4"/>
          <p:cNvSpPr/>
          <p:nvPr/>
        </p:nvSpPr>
        <p:spPr>
          <a:xfrm>
            <a:off x="846936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54360" y="914400"/>
            <a:ext cx="70754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5.2: History of Telecommunications Acces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668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would your life look like now if you did not have phone access?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did advocacy contribute to this history?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76720" y="2406600"/>
            <a:ext cx="63244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4"/>
          <p:cNvSpPr/>
          <p:nvPr/>
        </p:nvSpPr>
        <p:spPr>
          <a:xfrm>
            <a:off x="846936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5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6840" y="731520"/>
            <a:ext cx="518184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Myriad Pro"/>
              </a:rPr>
              <a:t>Video 5.3: Reporting a Grievance about Video Interpreting Services</a:t>
            </a:r>
            <a:endParaRPr b="1" lang="en-US" sz="36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5923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en and how do you submit a grievance for VRS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en and how do you submit a grievance for VRI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4080" y="2406600"/>
            <a:ext cx="64771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02280" y="884160"/>
            <a:ext cx="5486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5.4: Automated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Phone Servic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41520" y="2406600"/>
            <a:ext cx="4459320" cy="44244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5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578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kind of automated services have you used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do you benefit from using automated services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do businesses benefit from automated services?   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7:57:08Z</dcterms:created>
  <dc:creator>Margie English</dc:creator>
  <dc:description>EnglishWit Solutions is a technical marketing and writing service.  For more information, please visit www.englishwit.com. </dc:description>
  <cp:keywords/>
  <dc:language>en-US</dc:language>
  <cp:lastModifiedBy>EnglishWit Solutions LLC</cp:lastModifiedBy>
  <dcterms:modified xsi:type="dcterms:W3CDTF">2012-06-21T21:38:40Z</dcterms:modified>
  <cp:revision>31</cp:revision>
  <dc:subject/>
  <dc:title>DSAT Module 5</dc:title>
</cp:coreProperties>
</file>