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Deaf Self-Advocacy Training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Module 2: Self-Esteem and 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Self-Determinatio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1" name="Picture 3" descr="NCIEC.png"/>
          <p:cNvPicPr/>
          <p:nvPr/>
        </p:nvPicPr>
        <p:blipFill>
          <a:blip r:embed="rId1"/>
          <a:stretch/>
        </p:blipFill>
        <p:spPr>
          <a:xfrm>
            <a:off x="2830680" y="4800600"/>
            <a:ext cx="44082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2.2: Making a Reques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3520" y="2406600"/>
            <a:ext cx="9067680" cy="44244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8545680" y="682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2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The Self With Esteem and Determinatio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1360" y="2590920"/>
            <a:ext cx="9069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ow can high self-esteem help self-determination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Is it good to always work alone in advocacy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When is it good to work with others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How do you ask for what you need?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When do you ask for support?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92440" y="912960"/>
            <a:ext cx="59976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2.3: Checking on an Interpreter Reques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419360" y="2406600"/>
            <a:ext cx="5181480" cy="44244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8545680" y="690408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380880" y="2484360"/>
            <a:ext cx="396252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do you follow up                   on your request for interpreting serv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o should you ask when you follow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How does following up reflect self-esteem and self-determin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Goal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240660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Understand the relationship between self-esteem, self-determination and self advocacy, and that a  higher self-esteem can lead to better self-advocacy.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2.1: A Bad Day 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at Work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1760" y="2406600"/>
            <a:ext cx="8839080" cy="44244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8545680" y="682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2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Self-Esteem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is self-esteem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Confidence in yourself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Belief in your abilities to do things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ow can self-esteem help you in advocacy? 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How can low self-esteem influence you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How can high self-esteem influence you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ow would you feel if…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Your boss demands that you work on a day you already have plans with family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You have to learn something new at work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You have a job interview you are nervous about. 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0" name="Picture 4" descr="in_class_discussion2"/>
          <p:cNvPicPr/>
          <p:nvPr/>
        </p:nvPicPr>
        <p:blipFill>
          <a:blip r:embed="rId1"/>
          <a:stretch/>
        </p:blipFill>
        <p:spPr>
          <a:xfrm>
            <a:off x="5715000" y="685800"/>
            <a:ext cx="33861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Building Self-Esteem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2286000"/>
            <a:ext cx="618336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Build self-esteem through: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751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Positive self-talk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751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Saying, “I can do it!” or “Good for me! I did it well!”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751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Criticizing yourself is not positive self-talk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75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751"/>
              </a:spcAft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</a:rPr>
              <a:t>Visualization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751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Imagining positive things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3" name="Picture 4" descr="module 2 Slide5 pic.jpg"/>
          <p:cNvPicPr/>
          <p:nvPr/>
        </p:nvPicPr>
        <p:blipFill>
          <a:blip r:embed="rId1"/>
          <a:stretch/>
        </p:blipFill>
        <p:spPr>
          <a:xfrm>
            <a:off x="6259680" y="4541760"/>
            <a:ext cx="3504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Apply your learning.jpg"/>
          <p:cNvPicPr/>
          <p:nvPr/>
        </p:nvPicPr>
        <p:blipFill>
          <a:blip r:embed="rId1"/>
          <a:stretch/>
        </p:blipFill>
        <p:spPr>
          <a:xfrm>
            <a:off x="1371600" y="1676520"/>
            <a:ext cx="3581280" cy="14824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Boosting Self-Esteem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76840" y="2433600"/>
            <a:ext cx="3772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Activities: 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Self-esteem booster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Positive affirmation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Collage of goal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7" name="Picture 6" descr="Screen shot 2012-04-23 at 1"/>
          <p:cNvPicPr/>
          <p:nvPr/>
        </p:nvPicPr>
        <p:blipFill>
          <a:blip r:embed="rId2"/>
          <a:stretch/>
        </p:blipFill>
        <p:spPr>
          <a:xfrm>
            <a:off x="685800" y="3200400"/>
            <a:ext cx="4800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Self-Determinatio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1360" y="2406240"/>
            <a:ext cx="62499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is self-determination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The ability to decide for yourself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Skills, beliefs, and knowledge to express what you need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35200" y="1036800"/>
            <a:ext cx="744552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Steps to Self-Determinatio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2440" indent="-514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Realize what your personal preferences are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622440" indent="-514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t your goal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622440" indent="-514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Use your skills to achieve your goal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622440" indent="-5144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Evaluate your progress and learn from this experience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1:49:58Z</dcterms:created>
  <dc:creator>Margie English</dc:creator>
  <dc:description>EnglishWit Solutions is a technical marketing and writing service.  For more information, please visit www.englishwit.com. </dc:description>
  <cp:keywords/>
  <dc:language>en-US</dc:language>
  <cp:lastModifiedBy>EnglishWit Solutions LLC</cp:lastModifiedBy>
  <dcterms:modified xsi:type="dcterms:W3CDTF">2012-06-21T21:36:34Z</dcterms:modified>
  <cp:revision>41</cp:revision>
  <dc:subject/>
  <dc:title>DSAT Module 2</dc:title>
</cp:coreProperties>
</file>