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784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639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13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784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639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343400" y="912960"/>
            <a:ext cx="524664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9784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639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3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9784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639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343400" y="912960"/>
            <a:ext cx="524664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9784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6639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313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9784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6639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343400" y="912960"/>
            <a:ext cx="524664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9784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6639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13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59784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6639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343400" y="912960"/>
            <a:ext cx="524664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" name="Subtitle 2"/>
          <p:cNvSpPr/>
          <p:nvPr/>
        </p:nvSpPr>
        <p:spPr>
          <a:xfrm>
            <a:off x="10018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1" name="Subtitle 2"/>
          <p:cNvSpPr/>
          <p:nvPr/>
        </p:nvSpPr>
        <p:spPr>
          <a:xfrm>
            <a:off x="138276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1" name="Subtitle 2"/>
          <p:cNvSpPr/>
          <p:nvPr/>
        </p:nvSpPr>
        <p:spPr>
          <a:xfrm>
            <a:off x="7732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1" name="Subtitle 2"/>
          <p:cNvSpPr/>
          <p:nvPr/>
        </p:nvSpPr>
        <p:spPr>
          <a:xfrm>
            <a:off x="84924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  <a:ea typeface="Myriad Pro"/>
              </a:rPr>
              <a:t>Deaf Self-Advocacy Training</a:t>
            </a:r>
            <a:br>
              <a:rPr sz="4000"/>
            </a:br>
            <a:r>
              <a:rPr b="0" i="1" lang="en-US" sz="4000" spc="-1" strike="noStrike">
                <a:solidFill>
                  <a:srgbClr val="002060"/>
                </a:solidFill>
                <a:latin typeface="Myriad Pro"/>
                <a:ea typeface="Myriad Pro"/>
              </a:rPr>
              <a:t>Module 7: Utilizing Resources for Action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61" name="Picture 3" descr="NCIEC.png"/>
          <p:cNvPicPr/>
          <p:nvPr/>
        </p:nvPicPr>
        <p:blipFill>
          <a:blip r:embed="rId1"/>
          <a:stretch/>
        </p:blipFill>
        <p:spPr>
          <a:xfrm>
            <a:off x="3059280" y="4724280"/>
            <a:ext cx="458460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Getting the Information You Need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ontacting agencies can be hard work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nk about what you want to ask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Prepare your questions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Have a list of resources and their contact information ready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Plan your time well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Have a positive attitude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The Real World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reate an action plan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Identify what you need to do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List resources you have and need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Decide how you move forward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Use worksheets given to you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ity Council Meeting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1360" y="3809880"/>
            <a:ext cx="9069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nd out what the law is for providing interpreters at your city council meeting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Remember to plan well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Keep up a positive attitude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89" name="Picture 7" descr="applying your learn"/>
          <p:cNvPicPr/>
          <p:nvPr/>
        </p:nvPicPr>
        <p:blipFill>
          <a:blip r:embed="rId1"/>
          <a:stretch/>
        </p:blipFill>
        <p:spPr>
          <a:xfrm>
            <a:off x="838080" y="2013120"/>
            <a:ext cx="384516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11200" y="1188720"/>
            <a:ext cx="65530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Video 7.3: More Advocacy Stories 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09120" y="2406600"/>
            <a:ext cx="8991720" cy="4424400"/>
          </a:xfrm>
          <a:prstGeom prst="rect">
            <a:avLst/>
          </a:prstGeom>
          <a:ln w="0">
            <a:noFill/>
          </a:ln>
        </p:spPr>
      </p:pic>
      <p:sp>
        <p:nvSpPr>
          <p:cNvPr id="192" name="TextBox 4"/>
          <p:cNvSpPr/>
          <p:nvPr/>
        </p:nvSpPr>
        <p:spPr>
          <a:xfrm>
            <a:off x="8545680" y="6827760"/>
            <a:ext cx="1371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</a:rPr>
              <a:t>(Video 7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Review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1360" y="2179800"/>
            <a:ext cx="38228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Advocacy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ommunication access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lf-advocacy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lf-esteem 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lf-determination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Accommodation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4964040" y="2197080"/>
            <a:ext cx="4572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Qualified interpr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Reasonable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accommod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Eth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Griev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Attitu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Video Confer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Broad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343400" y="76212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Video 7.4: Congratulations!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3520" y="2209320"/>
            <a:ext cx="9067680" cy="462132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8545680" y="682776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</a:rPr>
              <a:t>(Video 7.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3280" y="1874880"/>
            <a:ext cx="8447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002060"/>
                </a:solidFill>
                <a:latin typeface="Myriad Pro"/>
              </a:rPr>
              <a:t>Congratulations!</a:t>
            </a:r>
            <a:br>
              <a:rPr sz="7200"/>
            </a:br>
            <a:br>
              <a:rPr sz="7200"/>
            </a:br>
            <a:r>
              <a:rPr b="1" lang="en-US" sz="7200" spc="-1" strike="noStrike">
                <a:solidFill>
                  <a:srgbClr val="002060"/>
                </a:solidFill>
                <a:latin typeface="Myriad Pro"/>
              </a:rPr>
              <a:t> Good luck in your self-advocacy!</a:t>
            </a:r>
            <a:endParaRPr b="1" lang="en-US" sz="7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Goal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Identify local, state,  and national resources in order to apply learned skills in self-advocating for communication access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ommunity Resources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What is a resource?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Source of support or assistance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Can help you reach your goals or advocate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Can be agencies, people, or information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Why are resources important?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Possible Resources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440" y="2406600"/>
            <a:ext cx="891540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ommissions for Deaf and Hard of Hearing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Deaf Service Agencies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Human Rights Commissions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Independent Living Centers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Legal Agencies and Assistance Centers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Membership Advocacy Organizations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Vocational Rehabilitation Agencies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62520" y="912960"/>
            <a:ext cx="562752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Video 7.1: Collecting Information with a Plan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5440" y="2285640"/>
            <a:ext cx="8915400" cy="45450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8545680" y="682776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</a:rPr>
              <a:t>(Video 7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14760" y="883800"/>
            <a:ext cx="637848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Membership Advocacy Organizations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31360" y="2209320"/>
            <a:ext cx="9069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Myriad Pro"/>
              </a:rPr>
              <a:t>American Association of the Deaf-Blind.</a:t>
            </a:r>
            <a:endParaRPr b="0" lang="en-US" sz="26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Myriad Pro"/>
              </a:rPr>
              <a:t>Deaf Women United</a:t>
            </a:r>
            <a:endParaRPr b="0" lang="en-US" sz="26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Myriad Pro"/>
              </a:rPr>
              <a:t>Hearing Loss Association of America.</a:t>
            </a:r>
            <a:endParaRPr b="0" lang="en-US" sz="26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Myriad Pro"/>
              </a:rPr>
              <a:t>National Asian Deaf Congress.</a:t>
            </a:r>
            <a:endParaRPr b="0" lang="en-US" sz="26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Myriad Pro"/>
              </a:rPr>
              <a:t>National Association of the Deaf.</a:t>
            </a:r>
            <a:endParaRPr b="0" lang="en-US" sz="26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Myriad Pro"/>
              </a:rPr>
              <a:t>National Black Deaf Advocates.</a:t>
            </a:r>
            <a:endParaRPr b="0" lang="en-US" sz="26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Myriad Pro"/>
              </a:rPr>
              <a:t>National Council of Hispano Deaf and Hard of Hearing.</a:t>
            </a:r>
            <a:endParaRPr b="0" lang="en-US" sz="26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Myriad Pro"/>
              </a:rPr>
              <a:t>Registry of Interpreters for the Deaf.</a:t>
            </a:r>
            <a:endParaRPr b="0" lang="en-US" sz="26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Myriad Pro"/>
              </a:rPr>
              <a:t>Sacred Circle.</a:t>
            </a:r>
            <a:endParaRPr b="0" lang="en-US" sz="26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Other Resources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31360" y="2560680"/>
            <a:ext cx="435636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People you know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Local agencies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Internet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Others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75" name="Picture 4" descr="module 7 slide 6.jpg"/>
          <p:cNvPicPr/>
          <p:nvPr/>
        </p:nvPicPr>
        <p:blipFill>
          <a:blip r:embed="rId1"/>
          <a:stretch/>
        </p:blipFill>
        <p:spPr>
          <a:xfrm>
            <a:off x="5105520" y="2525760"/>
            <a:ext cx="427500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Finding Resources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1360" y="3809880"/>
            <a:ext cx="487836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Use the Internet to find resources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Plan how you will approach each resource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Make a list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78" name="Picture 6" descr="pencil-and-paper"/>
          <p:cNvPicPr/>
          <p:nvPr/>
        </p:nvPicPr>
        <p:blipFill>
          <a:blip r:embed="rId1"/>
          <a:stretch/>
        </p:blipFill>
        <p:spPr>
          <a:xfrm>
            <a:off x="5715000" y="2438280"/>
            <a:ext cx="3886200" cy="4114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applying your learn"/>
          <p:cNvPicPr/>
          <p:nvPr/>
        </p:nvPicPr>
        <p:blipFill>
          <a:blip r:embed="rId2"/>
          <a:stretch/>
        </p:blipFill>
        <p:spPr>
          <a:xfrm>
            <a:off x="838080" y="2057400"/>
            <a:ext cx="35053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Video 7.2: A Story of Advocacy 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09120" y="2285640"/>
            <a:ext cx="8991720" cy="45450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4"/>
          <p:cNvSpPr/>
          <p:nvPr/>
        </p:nvSpPr>
        <p:spPr>
          <a:xfrm>
            <a:off x="8545680" y="6827760"/>
            <a:ext cx="1371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</a:rPr>
              <a:t>(Video 7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8:56:26Z</dcterms:created>
  <dc:creator>Margie English</dc:creator>
  <dc:description>EnglishWit Solutions is a technical marketing and writing service.  For more information, please visit www.englishwit.com. </dc:description>
  <cp:keywords/>
  <dc:language>en-US</dc:language>
  <cp:lastModifiedBy>EnglishWit Solutions LLC</cp:lastModifiedBy>
  <dcterms:modified xsi:type="dcterms:W3CDTF">2012-06-21T21:40:04Z</dcterms:modified>
  <cp:revision>27</cp:revision>
  <dc:subject/>
  <dc:title>DSAT Module 7</dc:title>
</cp:coreProperties>
</file>