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password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9.png" ContentType="image/png"/>
  <Override PartName="/ppt/media/buzz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7C6-1672-47CE-811F-71C943DFBB9E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8B29-547F-46D2-BBA9-2AE09824CE20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Subtitle 2"/>
          <p:cNvSpPr/>
          <p:nvPr/>
        </p:nvSpPr>
        <p:spPr>
          <a:xfrm>
            <a:off x="838080" y="6324480"/>
            <a:ext cx="701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Subtitle 2"/>
          <p:cNvSpPr/>
          <p:nvPr/>
        </p:nvSpPr>
        <p:spPr>
          <a:xfrm>
            <a:off x="838080" y="6324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password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6.png"/><Relationship Id="rId14" Type="http://schemas.openxmlformats.org/officeDocument/2006/relationships/image" Target="../media/image18.pn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Rectangle 6" descr=""/>
          <p:cNvPicPr/>
          <p:nvPr/>
        </p:nvPicPr>
        <p:blipFill>
          <a:blip r:embed="rId1"/>
          <a:stretch/>
        </p:blipFill>
        <p:spPr>
          <a:xfrm>
            <a:off x="1828800" y="4529160"/>
            <a:ext cx="5291280" cy="10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://the-coffee-guide.com/wp-content/uploads/2010/09/shhh.jpg"/>
          <p:cNvPicPr/>
          <p:nvPr/>
        </p:nvPicPr>
        <p:blipFill>
          <a:blip r:embed="rId2"/>
          <a:stretch/>
        </p:blipFill>
        <p:spPr>
          <a:xfrm>
            <a:off x="3425760" y="2286000"/>
            <a:ext cx="1832040" cy="22575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10" descr=""/>
          <p:cNvPicPr/>
          <p:nvPr/>
        </p:nvPicPr>
        <p:blipFill>
          <a:blip r:embed="rId3"/>
          <a:stretch/>
        </p:blipFill>
        <p:spPr>
          <a:xfrm>
            <a:off x="3273480" y="835200"/>
            <a:ext cx="5462640" cy="145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86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Self-determina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VR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Video Relay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Attitud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Ethic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CPC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yriad Pro"/>
              </a:rPr>
              <a:t>Code of Professional Con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Self-esteem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4920" y="3200040"/>
            <a:ext cx="6858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Certifica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yriad Pro"/>
              </a:rPr>
              <a:t>As applied by Registry of Interpreters for the De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Advocacy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Broadband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1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73152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Telecommunication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2520" y="837720"/>
            <a:ext cx="4417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5b"/>
                </a:solidFill>
                <a:latin typeface="Arial"/>
              </a:rPr>
              <a:t>Game Direction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This activity can be use at the end of the trai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One student stands with their back to this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The class gives the student clues to the word on the screen as a clock keeps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The class cannot use a word that is part of the Secret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The student tries to guess the word before the buzz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This can also be done with teams where the two students have their back to the screen and two other students provide c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When you </a:t>
            </a:r>
            <a:r>
              <a:rPr b="0" lang="ja-JP" sz="2000" spc="-1" strike="noStrike">
                <a:solidFill>
                  <a:srgbClr val="003d5b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page down</a:t>
            </a:r>
            <a:r>
              <a:rPr b="0" lang="ja-JP" sz="2000" spc="-1" strike="noStrike">
                <a:solidFill>
                  <a:srgbClr val="003d5b"/>
                </a:solidFill>
                <a:latin typeface="Verdana"/>
              </a:rPr>
              <a:t>”</a:t>
            </a: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 to the next slide the clock start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You are not required to use the clock, the winner could be the first person to guess the Secret Wor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All the vocabulary words are from the DSAT curricul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5b"/>
                </a:solidFill>
                <a:latin typeface="Verdana"/>
              </a:rPr>
              <a:t>Change or remove this slide if you w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Interprete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Real-tim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51920" y="3200400"/>
            <a:ext cx="71629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Reasonable Accommoda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Self-talk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Independent Living Center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High Speed Interne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Video stream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3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Grievanc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76960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RID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Registry of Interpreters for the D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6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0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Licensur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Rectangle 4" descr=""/>
          <p:cNvPicPr/>
          <p:nvPr/>
        </p:nvPicPr>
        <p:blipFill>
          <a:blip r:embed="rId1"/>
          <a:stretch/>
        </p:blipFill>
        <p:spPr>
          <a:xfrm>
            <a:off x="1828800" y="3309840"/>
            <a:ext cx="55958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VRI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Video Remote Interpr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49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0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Behavio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0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NAD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National Association of the D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2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0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TR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Telecommunication Relay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54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0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Advocacy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20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Discrimina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Communication Acces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Self-Advocacy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Qualified Interprete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6858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yriad Pro"/>
              </a:rPr>
              <a:t>Resourc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19" descr=""/>
          <p:cNvPicPr/>
          <p:nvPr/>
        </p:nvPicPr>
        <p:blipFill>
          <a:blip r:embed="rId14"/>
          <a:stretch/>
        </p:blipFill>
        <p:spPr>
          <a:xfrm>
            <a:off x="1646280" y="1262160"/>
            <a:ext cx="7485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Anonymous Anonymous</cp:lastModifiedBy>
  <dcterms:modified xsi:type="dcterms:W3CDTF">2012-06-20T16:38:06Z</dcterms:modified>
  <cp:revision>72</cp:revision>
  <dc:subject/>
  <dc:title>Password</dc:title>
</cp:coreProperties>
</file>