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0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0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0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  <a:ea typeface="Myriad Pro"/>
              </a:rPr>
              <a:t>Deaf Self-Advocacy Training</a:t>
            </a:r>
            <a:br>
              <a:rPr sz="4000"/>
            </a:br>
            <a:r>
              <a:rPr b="0" i="1" lang="en-US" sz="4000" spc="-1" strike="noStrike">
                <a:solidFill>
                  <a:srgbClr val="002060"/>
                </a:solidFill>
                <a:latin typeface="Myriad Pro"/>
                <a:ea typeface="Myriad Pro"/>
              </a:rPr>
              <a:t>Module 3: Working with Interpreters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60" name="Picture 3" descr="NCIEC.png"/>
          <p:cNvPicPr/>
          <p:nvPr/>
        </p:nvPicPr>
        <p:blipFill>
          <a:blip r:embed="rId1"/>
          <a:stretch/>
        </p:blipFill>
        <p:spPr>
          <a:xfrm>
            <a:off x="3059280" y="4724280"/>
            <a:ext cx="458460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80920" y="912960"/>
            <a:ext cx="600876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High-Quality Interpreting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1360" y="2406240"/>
            <a:ext cx="51944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05720" indent="-304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Myriad Pro"/>
              </a:rPr>
              <a:t>(Continued)</a:t>
            </a:r>
            <a:endParaRPr b="0" lang="en-US" sz="2000" spc="-1" strike="noStrike">
              <a:solidFill>
                <a:srgbClr val="002060"/>
              </a:solidFill>
              <a:latin typeface="Myriad Pro"/>
            </a:endParaRPr>
          </a:p>
          <a:p>
            <a:pPr marL="405720" indent="-3042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Suggest where the interpreter should stand or sit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405720" indent="-3042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If you don’t understand the interpreter, say something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405720" indent="-3042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Request a Certified Deaf Interpreter when necessary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84" name="Picture 6" descr="bigstockphoto_Formal_Introduction_698166"/>
          <p:cNvPicPr/>
          <p:nvPr/>
        </p:nvPicPr>
        <p:blipFill>
          <a:blip r:embed="rId1"/>
          <a:stretch/>
        </p:blipFill>
        <p:spPr>
          <a:xfrm>
            <a:off x="5638680" y="2438280"/>
            <a:ext cx="44420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It’s Your Choice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1360" y="2406600"/>
            <a:ext cx="527076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Think about what you want to do in each situation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Decide what the best steps are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Look at the </a:t>
            </a: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Tips for Working with Interpreters</a:t>
            </a: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 handout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Discuss your choices with the group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87" name="Picture 7" descr="Screen shot 2012-04-23 at 2"/>
          <p:cNvPicPr/>
          <p:nvPr/>
        </p:nvPicPr>
        <p:blipFill>
          <a:blip r:embed="rId1"/>
          <a:stretch/>
        </p:blipFill>
        <p:spPr>
          <a:xfrm>
            <a:off x="5943600" y="3124080"/>
            <a:ext cx="3657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3.4: Scenarios for Discussion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495680" y="2406600"/>
            <a:ext cx="5105520" cy="44244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8621640" y="6827760"/>
            <a:ext cx="1360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(Video 3.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1720" y="2406600"/>
            <a:ext cx="388800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What do you do if you are provided an unqualified interpreter? 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Did this happen to you before?  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How did this affect your appointment?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744720" y="960480"/>
            <a:ext cx="601956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3.5: Requesting a Qualified Interpreter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038480" y="2406600"/>
            <a:ext cx="5562720" cy="44244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4"/>
          <p:cNvSpPr/>
          <p:nvPr/>
        </p:nvSpPr>
        <p:spPr>
          <a:xfrm>
            <a:off x="854568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(Video 3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35830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What should you do to make sure you get an qualified interpreter?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Let’s practice!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Goal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480" y="2406600"/>
            <a:ext cx="876312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Understand how to define a “qualified interpreter” and how to get quality interpreting service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4"/>
          <p:cNvSpPr/>
          <p:nvPr/>
        </p:nvSpPr>
        <p:spPr>
          <a:xfrm>
            <a:off x="8621640" y="6904080"/>
            <a:ext cx="1371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(Video 3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3.1: A Visit to the Emergency Room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1720" y="2406600"/>
            <a:ext cx="327816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Why was the mother so frustrated with the communication?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Can the nurse be considered an interpreter? 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885840" y="2406600"/>
            <a:ext cx="57150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How Does </a:t>
            </a: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Interpreting Work?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68" name="Picture 9" descr="DAT-illustration_final"/>
          <p:cNvPicPr/>
          <p:nvPr/>
        </p:nvPicPr>
        <p:blipFill>
          <a:blip r:embed="rId1"/>
          <a:stretch/>
        </p:blipFill>
        <p:spPr>
          <a:xfrm>
            <a:off x="685800" y="2241720"/>
            <a:ext cx="868680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971800" y="912960"/>
            <a:ext cx="66182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Qualified and/or Certified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33520" y="2406600"/>
            <a:ext cx="90676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What are the differences between a </a:t>
            </a:r>
            <a:r>
              <a:rPr b="0" i="1" lang="en-US" sz="3200" spc="-1" strike="noStrike">
                <a:solidFill>
                  <a:srgbClr val="002060"/>
                </a:solidFill>
                <a:latin typeface="Myriad Pro"/>
              </a:rPr>
              <a:t>qualified</a:t>
            </a: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 interpreter and a </a:t>
            </a:r>
            <a:r>
              <a:rPr b="0" i="1" lang="en-US" sz="3200" spc="-1" strike="noStrike">
                <a:solidFill>
                  <a:srgbClr val="002060"/>
                </a:solidFill>
                <a:latin typeface="Myriad Pro"/>
              </a:rPr>
              <a:t>certified</a:t>
            </a: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 interpreter?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Why is certification important?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What is licensure?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What are the different types of certification in your state?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What are the educational requirements for certification?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11560" y="883800"/>
            <a:ext cx="661824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3.2: Characteristics of Quality Interpreters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440" y="2514600"/>
            <a:ext cx="8915400" cy="43164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"/>
          <p:cNvSpPr/>
          <p:nvPr/>
        </p:nvSpPr>
        <p:spPr>
          <a:xfrm>
            <a:off x="8545680" y="6827760"/>
            <a:ext cx="1447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(Video 3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68560" y="1265040"/>
            <a:ext cx="7913520" cy="96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Who Provides the Interpreters?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Always request an interpreter just in case. 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To decide who pays for the interpreters, consider: 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29080" indent="-27576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Location of meeting and the organization(s) involved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29080" indent="-27576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Size of company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29080" indent="-27576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Situation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Know what the law says in your: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29080" indent="-27576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City, county, state and country. 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57240" y="912960"/>
            <a:ext cx="59324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3.3: Working with Deaf Interpreters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495680" y="2406600"/>
            <a:ext cx="5105520" cy="44244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8545680" y="6827760"/>
            <a:ext cx="1371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(Video 3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1720" y="2406600"/>
            <a:ext cx="38116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How would you benefit from working with a Deaf Interpreter? 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Where could you use a Deaf Interpreter?  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What is the difference between a Deaf Interpreter and an advocate?</a:t>
            </a:r>
            <a:r>
              <a:rPr b="0" lang="en-US" sz="2400" spc="-1" strike="noStrike">
                <a:solidFill>
                  <a:srgbClr val="002060"/>
                </a:solidFill>
                <a:latin typeface="Myriad Pro"/>
              </a:rPr>
              <a:t> </a:t>
            </a:r>
            <a:endParaRPr b="0" lang="en-US" sz="24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29000" y="912960"/>
            <a:ext cx="61610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High-Quality Interpreting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09120" y="2406600"/>
            <a:ext cx="89917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Make your request as early as possible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Ask for a certified interpreter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Let the interpreter referral agency know if you want a specific interpreter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Provide information to the other party about how to hire interpreter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Give background information to the interpreter before an assignment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5:15:56Z</dcterms:created>
  <dc:creator>Margie English</dc:creator>
  <dc:description>EnglishWit Solutions is a technical marketing and writing service.  For more information, please visit www.englishwit.com. </dc:description>
  <cp:keywords/>
  <dc:language>en-US</dc:language>
  <cp:lastModifiedBy>EnglishWit Solutions LLC</cp:lastModifiedBy>
  <dcterms:modified xsi:type="dcterms:W3CDTF">2012-06-21T21:37:23Z</dcterms:modified>
  <cp:revision>40</cp:revision>
  <dc:subject/>
  <dc:title>DSAT Module 3</dc:title>
</cp:coreProperties>
</file>