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Deaf Self-Advocacy Training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Module 4: Ethics of Working with Interpreter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1" name="Picture 3" descr="NCIEC.png"/>
          <p:cNvPicPr/>
          <p:nvPr/>
        </p:nvPicPr>
        <p:blipFill>
          <a:blip r:embed="rId1"/>
          <a:stretch/>
        </p:blipFill>
        <p:spPr>
          <a:xfrm>
            <a:off x="2730600" y="4764240"/>
            <a:ext cx="458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Filing a Complain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MS Gothic"/>
              </a:rPr>
              <a:t>If you are not satisfied with a RID-certified interpreter, you can file a grievance or complaint: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MS Gothic"/>
              </a:rPr>
              <a:t>File within 90 day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MS Gothic"/>
              </a:rPr>
              <a:t>Go through mediation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MS Gothic"/>
              </a:rPr>
              <a:t>If that does not work, a hearing will be held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ommon Problem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nterpreters acting as “helpers.”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hildren interpreting for adult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nterpreters charging too much or too littl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SL learners working as interpreter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Other problem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7" name="Picture 4" descr="module 4 slide 7.jpg"/>
          <p:cNvPicPr/>
          <p:nvPr/>
        </p:nvPicPr>
        <p:blipFill>
          <a:blip r:embed="rId1"/>
          <a:stretch/>
        </p:blipFill>
        <p:spPr>
          <a:xfrm>
            <a:off x="7010280" y="1981080"/>
            <a:ext cx="22860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45080" y="912960"/>
            <a:ext cx="584496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4.5: How to Work with Interpreter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120" y="2406600"/>
            <a:ext cx="8991720" cy="44244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846936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16120" y="1189080"/>
            <a:ext cx="607356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Explaining How to Work with an Interpreter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1154160" y="4084560"/>
            <a:ext cx="8001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31640" indent="-215640"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Explain to a hearing person on how to work with an interpr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Use the tip sheet from the append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applying your learn"/>
          <p:cNvPicPr/>
          <p:nvPr/>
        </p:nvPicPr>
        <p:blipFill>
          <a:blip r:embed="rId1"/>
          <a:stretch/>
        </p:blipFill>
        <p:spPr>
          <a:xfrm>
            <a:off x="762120" y="2286000"/>
            <a:ext cx="39765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4.6:  A Prepared Interpreter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440" y="2406600"/>
            <a:ext cx="8915400" cy="44244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4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oal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Understand the roles of interpreters, and how to effectively work with interpreter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14440" y="912960"/>
            <a:ext cx="54752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4.1:  An Unprepared Interpreter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1760" y="2514600"/>
            <a:ext cx="8839080" cy="43164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4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Interpreter Ethic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Ethics show the values of each person.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hey become clear through action.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hey help people decide what is right or wrong.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hey are not the same for each person.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do we know what to expect from interpreters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16120" y="912960"/>
            <a:ext cx="607356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4.2: RID Code of Professional Conduc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120" y="2406600"/>
            <a:ext cx="8991720" cy="44244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ode of Professional Conduct Tenet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688680" indent="-585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Interpreters adhere to standards of confidential communic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688680" indent="-585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Interpreters possess the professional skills and knowledge required for the specific interpreting situ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688680" indent="-585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Interpreters conduct themselves in a manner appropriate to the specific interpreting situ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688680" indent="-585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Interpreters demonstrate respect for customer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ode of Professional Conduct Tenet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Myriad Pro"/>
                <a:ea typeface="MS Gothic"/>
              </a:rPr>
              <a:t>(continued)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arenR" startAt="5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MS Gothic"/>
              </a:rPr>
              <a:t>Interpreters demonstrate respect for colleagues, interns, and students of the profession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arenR" startAt="5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MS Gothic"/>
              </a:rPr>
              <a:t>Interpreters maintain ethical business practic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arenR" startAt="5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MS Gothic"/>
              </a:rPr>
              <a:t>Interpreters engage in professional development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68400" y="960480"/>
            <a:ext cx="61722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4.3: A Humorous Look at Interpreter Ethic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2406600"/>
            <a:ext cx="9067680" cy="44244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8545680" y="690408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4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4.4: RID Ethical Practices System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2406600"/>
            <a:ext cx="5105520" cy="44244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846936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4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1720" y="2406600"/>
            <a:ext cx="38880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are your rights with interpreters? 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should you do when you see an interpreter do something wrong?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6:08:05Z</dcterms:created>
  <dc:creator>Margie English</dc:creator>
  <dc:description>EnglishWit Solutions is a technical marketing and writing service.  For more information, please visit www.englishwit.com. </dc:description>
  <cp:keywords/>
  <dc:language>en-US</dc:language>
  <cp:lastModifiedBy>EnglishWit Solutions LLC</cp:lastModifiedBy>
  <dcterms:modified xsi:type="dcterms:W3CDTF">2012-06-21T21:38:01Z</dcterms:modified>
  <cp:revision>33</cp:revision>
  <dc:subject/>
  <dc:title>DSAT Module 4</dc:title>
</cp:coreProperties>
</file>